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22.jpeg" ContentType="image/jpeg"/>
  <Override PartName="/ppt/media/image14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5.jpeg" ContentType="image/jpeg"/>
  <Override PartName="/ppt/media/image16.jpeg" ContentType="image/jpeg"/>
  <Override PartName="/ppt/media/image2.wmf" ContentType="image/x-wmf"/>
  <Override PartName="/ppt/media/image17.jpeg" ContentType="image/jpeg"/>
  <Override PartName="/ppt/media/image3.png" ContentType="image/png"/>
  <Override PartName="/ppt/media/image20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0A6B-1713-41E4-BCDD-0E324C248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6664-17F5-4371-8404-3A70F7511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FEB7-D7C7-4FB4-B70F-2FA6490D4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95A3-28F6-4281-B07A-EE1AD750A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00CD-2CA5-47B3-B750-A93C1112F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BE6D-A2CA-4153-A8AC-2A294AAD1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F46D-E7B3-4181-B93A-26BA2CF21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F5A6-20D1-43A0-AE40-5E802642D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D850-B251-49FD-98A8-76D821390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D436-32ED-413F-BD8F-9C8B322F6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1684-431B-4B01-969A-742CFB97F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5C84-E4C0-4AD2-965A-38592E155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1342-50AD-4F82-AC60-04BF525D4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48DF-23A1-4B37-B9B2-D4B75F986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221E-0CFD-4135-BDB4-8E2D3FC05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FCF3-4E9B-4AB0-A591-E4371665C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F9A6-6563-4B5A-A131-A5DA8E6D8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7482-D6FD-49E3-8A45-44C28A3DC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ACA7-3025-49B3-A079-A05C428DB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0626-3E5A-48E9-BC25-3FC1B5DDF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DFF5-3803-46D4-AF7C-B0FD1326C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6003-B0D1-48A3-87A8-3CF64F8CF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D817-0FD0-4CA2-B8BC-D8001B7DC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F06F-BE07-4D35-8FB0-E88617C6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6FA-BAFD-4815-9654-B63EAEB2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5B25-3C7B-47D1-AF44-B82000D5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49F7-44A3-4A2C-B223-77462DED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3F03-AC82-425D-8E48-C3400F6A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B44D-3A3B-44A6-98B7-9D6C532F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3ECA-21F8-4097-8A75-9620684A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31F5-5660-490B-88C4-A1596E51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12D7-756F-4DDB-B1A6-D8446E3E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7E43-6905-4944-9755-2E998C22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E973-BACF-4180-A495-CF711EFD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AE8D-0F37-4121-99B7-A36E8DFD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E9C5-DB9F-406B-9F94-74F800F4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EF1A-5DBA-4B36-894D-E3019719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8A85-CE2B-42BE-A2FA-2AEF8EDF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63D6-C5F0-4044-B121-E5CC82BF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D332-11F4-45F9-B60F-8EE0738D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9BC-34E7-49EB-BFA5-EBE6AA2E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2AA-5BC0-481B-ACBD-86D11755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CDEA-B642-449C-BFA0-6453B766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8152-A730-44E8-A4E2-4168A461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BFC-B22D-4153-96F0-4061A703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B0CD-E9F9-40EA-90BB-7DE1786D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0A30-DC6D-457E-88FA-CAB057B8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4823-54D7-4A81-AA55-A4D90C8C3D0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6360"/>
            <a:ext cx="212256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6960" y="6246360"/>
            <a:ext cx="289404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F45D-9403-4842-957C-35975E0CE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es.wikipedia.org/wiki/Imagen:Carotenoid.PNG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4 CuadroTexto"/>
          <p:cNvSpPr/>
          <p:nvPr/>
        </p:nvSpPr>
        <p:spPr>
          <a:xfrm>
            <a:off x="785880" y="1500120"/>
            <a:ext cx="7643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cc"/>
                </a:solidFill>
                <a:latin typeface="Arial"/>
              </a:rPr>
              <a:t>Bolilla 11: Biosíntesis de Proteínas. </a:t>
            </a:r>
            <a:r>
              <a:rPr b="0" lang="es-ES" sz="2000" spc="-1" strike="noStrike">
                <a:solidFill>
                  <a:srgbClr val="6600cc"/>
                </a:solidFill>
                <a:latin typeface="Arial"/>
              </a:rPr>
              <a:t>Traducción de la información genética. Universalidad del código genético. Activación de los aminoácidos, fidelidad de la síntesis proteica. Etapas de iniciación, formación del enlace peptídico, elongación y terminación de la síntesis, factores que intervienen, consumo energético y regulación. Inhibidores de la síntesis.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Nociones sobre alimentos transgé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529920" y="279360"/>
            <a:ext cx="77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                                Ing. en Al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Alimentos transgé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6200" y="1052640"/>
            <a:ext cx="7993080" cy="26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000066"/>
                </a:solidFill>
                <a:latin typeface="Arial"/>
              </a:rPr>
              <a:t>Alimento transgénico o “genéticamente modificado” es aquel producto de origen animal o vegetal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con propiedades nutritivas</a:t>
            </a:r>
            <a:r>
              <a:rPr b="1" lang="es-AR" sz="2000" spc="-1" strike="noStrike">
                <a:solidFill>
                  <a:srgbClr val="000066"/>
                </a:solidFill>
                <a:latin typeface="Arial"/>
              </a:rPr>
              <a:t> en el cual </a:t>
            </a:r>
            <a:r>
              <a:rPr b="1" lang="es-AR" sz="2000" spc="-1" strike="noStrike" u="sng">
                <a:solidFill>
                  <a:srgbClr val="000066"/>
                </a:solidFill>
                <a:uFillTx/>
                <a:latin typeface="Arial"/>
              </a:rPr>
              <a:t>se ha introducido un gen de otro organismo</a:t>
            </a:r>
            <a:r>
              <a:rPr b="1" lang="es-AR" sz="2000" spc="-1" strike="noStrike">
                <a:solidFill>
                  <a:srgbClr val="000066"/>
                </a:solidFill>
                <a:latin typeface="Arial"/>
              </a:rPr>
              <a:t>, o se le ha </a:t>
            </a:r>
            <a:r>
              <a:rPr b="1" lang="es-AR" sz="2000" spc="-1" strike="noStrike" u="sng">
                <a:solidFill>
                  <a:srgbClr val="000066"/>
                </a:solidFill>
                <a:uFillTx/>
                <a:latin typeface="Arial"/>
              </a:rPr>
              <a:t>suprimido o modificado un gen propio</a:t>
            </a:r>
            <a:r>
              <a:rPr b="1" lang="es-AR" sz="2000" spc="-1" strike="noStrike">
                <a:solidFill>
                  <a:srgbClr val="000066"/>
                </a:solidFill>
                <a:latin typeface="Arial"/>
              </a:rPr>
              <a:t>, mediante técnicas de ingeniería genét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000066"/>
                </a:solidFill>
                <a:latin typeface="Arial"/>
              </a:rPr>
              <a:t>Tal manipulación permite que el organismo produzca una nueva proteína, o deje de producir una proteína del organismo original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611280" y="907920"/>
            <a:ext cx="8064360" cy="2881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57200" y="386064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Arial"/>
              </a:rPr>
              <a:t>Protección contra insectos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. Papa, maí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Arial"/>
              </a:rPr>
              <a:t>Protección contra hongos, virus, etc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Batata transgé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Arial"/>
              </a:rPr>
              <a:t>Control de malezas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. Soja R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Arial"/>
              </a:rPr>
              <a:t>Preservación de vegetales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. Tomate transgén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826920" y="778680"/>
            <a:ext cx="770580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Elementos básicos requeridos para l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transformación genética de pla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1. Vectores que permitan el clonado (la incorporación) del gen de interés y/o su transferencia al organismo blanco de transform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2. Un protocolo de transformación (sistema o método de transferencia de genes y de selección del material transformad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3. Un sistema de cultivo que permita generar organismos (plantas) completos y férti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4. Herramientas de análisis para detectar la presencia del transgén y los productos del mismo en la plan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611280" y="189000"/>
            <a:ext cx="8027640" cy="4379400"/>
            <a:chOff x="611280" y="189000"/>
            <a:chExt cx="8027640" cy="4379400"/>
          </a:xfrm>
        </p:grpSpPr>
        <p:grpSp>
          <p:nvGrpSpPr>
            <p:cNvPr id="121" name="Group 3"/>
            <p:cNvGrpSpPr/>
            <p:nvPr/>
          </p:nvGrpSpPr>
          <p:grpSpPr>
            <a:xfrm>
              <a:off x="611280" y="803160"/>
              <a:ext cx="8027640" cy="3765240"/>
              <a:chOff x="611280" y="803160"/>
              <a:chExt cx="8027640" cy="3765240"/>
            </a:xfrm>
          </p:grpSpPr>
          <p:grpSp>
            <p:nvGrpSpPr>
              <p:cNvPr id="122" name="Group 4"/>
              <p:cNvGrpSpPr/>
              <p:nvPr/>
            </p:nvGrpSpPr>
            <p:grpSpPr>
              <a:xfrm>
                <a:off x="611280" y="803880"/>
                <a:ext cx="3468240" cy="3764520"/>
                <a:chOff x="611280" y="803880"/>
                <a:chExt cx="3468240" cy="3764520"/>
              </a:xfrm>
            </p:grpSpPr>
            <p:grpSp>
              <p:nvGrpSpPr>
                <p:cNvPr id="123" name="Group 5"/>
                <p:cNvGrpSpPr/>
                <p:nvPr/>
              </p:nvGrpSpPr>
              <p:grpSpPr>
                <a:xfrm>
                  <a:off x="939960" y="1361160"/>
                  <a:ext cx="2682360" cy="2788200"/>
                  <a:chOff x="939960" y="1361160"/>
                  <a:chExt cx="2682360" cy="2788200"/>
                </a:xfrm>
              </p:grpSpPr>
              <p:sp>
                <p:nvSpPr>
                  <p:cNvPr id="124" name="Oval 6"/>
                  <p:cNvSpPr/>
                  <p:nvPr/>
                </p:nvSpPr>
                <p:spPr>
                  <a:xfrm>
                    <a:off x="1158840" y="1640160"/>
                    <a:ext cx="2282040" cy="23698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7"/>
                  <p:cNvSpPr/>
                  <p:nvPr/>
                </p:nvSpPr>
                <p:spPr>
                  <a:xfrm>
                    <a:off x="2071440" y="2616120"/>
                    <a:ext cx="547560" cy="557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Ti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utoShape 8"/>
                  <p:cNvSpPr/>
                  <p:nvPr/>
                </p:nvSpPr>
                <p:spPr>
                  <a:xfrm rot="19746600">
                    <a:off x="1249560" y="1639800"/>
                    <a:ext cx="1369080" cy="1254600"/>
                  </a:xfrm>
                  <a:prstGeom prst="pie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AutoShape 9"/>
                  <p:cNvSpPr/>
                  <p:nvPr/>
                </p:nvSpPr>
                <p:spPr>
                  <a:xfrm>
                    <a:off x="1614960" y="1500840"/>
                    <a:ext cx="1369440" cy="1254600"/>
                  </a:xfrm>
                  <a:prstGeom prst="pie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AutoShape 10"/>
                  <p:cNvSpPr/>
                  <p:nvPr/>
                </p:nvSpPr>
                <p:spPr>
                  <a:xfrm rot="2091600">
                    <a:off x="1980000" y="1639800"/>
                    <a:ext cx="1369440" cy="1254600"/>
                  </a:xfrm>
                  <a:prstGeom prst="pie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AutoShape 11"/>
                  <p:cNvSpPr/>
                  <p:nvPr/>
                </p:nvSpPr>
                <p:spPr>
                  <a:xfrm rot="6153000">
                    <a:off x="2197800" y="2628000"/>
                    <a:ext cx="1755000" cy="730080"/>
                  </a:xfrm>
                  <a:prstGeom prst="pie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utoShape 12"/>
                  <p:cNvSpPr/>
                  <p:nvPr/>
                </p:nvSpPr>
                <p:spPr>
                  <a:xfrm rot="10800000">
                    <a:off x="1614960" y="3173400"/>
                    <a:ext cx="1369440" cy="975960"/>
                  </a:xfrm>
                  <a:prstGeom prst="pie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utoShape 13"/>
                  <p:cNvSpPr/>
                  <p:nvPr/>
                </p:nvSpPr>
                <p:spPr>
                  <a:xfrm rot="15171600">
                    <a:off x="695160" y="2801520"/>
                    <a:ext cx="1584360" cy="657720"/>
                  </a:xfrm>
                  <a:prstGeom prst="pie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AutoShape 14"/>
                  <p:cNvSpPr/>
                  <p:nvPr/>
                </p:nvSpPr>
                <p:spPr>
                  <a:xfrm rot="1864200">
                    <a:off x="1312560" y="1919160"/>
                    <a:ext cx="198360" cy="278640"/>
                  </a:xfrm>
                  <a:prstGeom prst="triangle">
                    <a:avLst>
                      <a:gd name="adj" fmla="val 67486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AutoShape 15"/>
                  <p:cNvSpPr/>
                  <p:nvPr/>
                </p:nvSpPr>
                <p:spPr>
                  <a:xfrm rot="19471800">
                    <a:off x="3175200" y="2058480"/>
                    <a:ext cx="182520" cy="278640"/>
                  </a:xfrm>
                  <a:prstGeom prst="triangle">
                    <a:avLst>
                      <a:gd name="adj" fmla="val 45324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Group 16"/>
                <p:cNvGrpSpPr/>
                <p:nvPr/>
              </p:nvGrpSpPr>
              <p:grpSpPr>
                <a:xfrm>
                  <a:off x="1067400" y="803880"/>
                  <a:ext cx="2556000" cy="1533240"/>
                  <a:chOff x="1067400" y="803880"/>
                  <a:chExt cx="2556000" cy="1533240"/>
                </a:xfrm>
              </p:grpSpPr>
              <p:sp>
                <p:nvSpPr>
                  <p:cNvPr id="135" name="Text Box 17"/>
                  <p:cNvSpPr/>
                  <p:nvPr/>
                </p:nvSpPr>
                <p:spPr>
                  <a:xfrm>
                    <a:off x="1980360" y="803880"/>
                    <a:ext cx="730080" cy="278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DN-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Text Box 18"/>
                  <p:cNvSpPr/>
                  <p:nvPr/>
                </p:nvSpPr>
                <p:spPr>
                  <a:xfrm>
                    <a:off x="1067400" y="1361520"/>
                    <a:ext cx="730080" cy="418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en Auxi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Text Box 19"/>
                  <p:cNvSpPr/>
                  <p:nvPr/>
                </p:nvSpPr>
                <p:spPr>
                  <a:xfrm>
                    <a:off x="1888920" y="1082520"/>
                    <a:ext cx="912960" cy="37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en Citoquini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Text Box 20"/>
                  <p:cNvSpPr/>
                  <p:nvPr/>
                </p:nvSpPr>
                <p:spPr>
                  <a:xfrm>
                    <a:off x="2984400" y="1361520"/>
                    <a:ext cx="639000" cy="418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en Opi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Text Box 21"/>
                  <p:cNvSpPr/>
                  <p:nvPr/>
                </p:nvSpPr>
                <p:spPr>
                  <a:xfrm>
                    <a:off x="1067400" y="1919160"/>
                    <a:ext cx="273600" cy="278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I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Text Box 22"/>
                  <p:cNvSpPr/>
                  <p:nvPr/>
                </p:nvSpPr>
                <p:spPr>
                  <a:xfrm>
                    <a:off x="3349440" y="2058480"/>
                    <a:ext cx="273600" cy="278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1" name="Group 23"/>
                  <p:cNvGrpSpPr/>
                  <p:nvPr/>
                </p:nvGrpSpPr>
                <p:grpSpPr>
                  <a:xfrm>
                    <a:off x="1067400" y="1082520"/>
                    <a:ext cx="2556000" cy="139320"/>
                    <a:chOff x="1067400" y="1082520"/>
                    <a:chExt cx="2556000" cy="139320"/>
                  </a:xfrm>
                </p:grpSpPr>
                <p:sp>
                  <p:nvSpPr>
                    <p:cNvPr id="142" name="Line 24"/>
                    <p:cNvSpPr/>
                    <p:nvPr/>
                  </p:nvSpPr>
                  <p:spPr>
                    <a:xfrm>
                      <a:off x="1067400" y="1082520"/>
                      <a:ext cx="2556000" cy="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Line 25"/>
                    <p:cNvSpPr/>
                    <p:nvPr/>
                  </p:nvSpPr>
                  <p:spPr>
                    <a:xfrm>
                      <a:off x="1067400" y="1082520"/>
                      <a:ext cx="0" cy="1393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26"/>
                    <p:cNvSpPr/>
                    <p:nvPr/>
                  </p:nvSpPr>
                  <p:spPr>
                    <a:xfrm>
                      <a:off x="3623400" y="1082520"/>
                      <a:ext cx="0" cy="1393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5" name="Text Box 27"/>
                <p:cNvSpPr/>
                <p:nvPr/>
              </p:nvSpPr>
              <p:spPr>
                <a:xfrm>
                  <a:off x="3440880" y="3034440"/>
                  <a:ext cx="638640" cy="41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enes </a:t>
                  </a: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r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Text Box 28"/>
                <p:cNvSpPr/>
                <p:nvPr/>
              </p:nvSpPr>
              <p:spPr>
                <a:xfrm>
                  <a:off x="611280" y="3174120"/>
                  <a:ext cx="638640" cy="41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enes </a:t>
                  </a: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vi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Text Box 29"/>
                <p:cNvSpPr/>
                <p:nvPr/>
              </p:nvSpPr>
              <p:spPr>
                <a:xfrm>
                  <a:off x="1980360" y="4150080"/>
                  <a:ext cx="638640" cy="41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ri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30"/>
              <p:cNvGrpSpPr/>
              <p:nvPr/>
            </p:nvGrpSpPr>
            <p:grpSpPr>
              <a:xfrm>
                <a:off x="5071320" y="803160"/>
                <a:ext cx="3567600" cy="3608640"/>
                <a:chOff x="5071320" y="803160"/>
                <a:chExt cx="3567600" cy="3608640"/>
              </a:xfrm>
            </p:grpSpPr>
            <p:sp>
              <p:nvSpPr>
                <p:cNvPr id="149" name="Text Box 31"/>
                <p:cNvSpPr/>
                <p:nvPr/>
              </p:nvSpPr>
              <p:spPr>
                <a:xfrm>
                  <a:off x="5071320" y="3075120"/>
                  <a:ext cx="64008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enes </a:t>
                  </a: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vi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32"/>
                <p:cNvSpPr/>
                <p:nvPr/>
              </p:nvSpPr>
              <p:spPr>
                <a:xfrm>
                  <a:off x="7998840" y="2808000"/>
                  <a:ext cx="64008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enes </a:t>
                  </a: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r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Text Box 33"/>
                <p:cNvSpPr/>
                <p:nvPr/>
              </p:nvSpPr>
              <p:spPr>
                <a:xfrm>
                  <a:off x="6535080" y="4010760"/>
                  <a:ext cx="640080" cy="40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ri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Text Box 34"/>
                <p:cNvSpPr/>
                <p:nvPr/>
              </p:nvSpPr>
              <p:spPr>
                <a:xfrm>
                  <a:off x="5894640" y="803160"/>
                  <a:ext cx="1829520" cy="26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DN-T modificad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Text Box 35"/>
                <p:cNvSpPr/>
                <p:nvPr/>
              </p:nvSpPr>
              <p:spPr>
                <a:xfrm>
                  <a:off x="5803200" y="1114920"/>
                  <a:ext cx="91476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en de interé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Text Box 36"/>
                <p:cNvSpPr/>
                <p:nvPr/>
              </p:nvSpPr>
              <p:spPr>
                <a:xfrm>
                  <a:off x="6900840" y="1070280"/>
                  <a:ext cx="82332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en Marcad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" name="Group 37"/>
                <p:cNvGrpSpPr/>
                <p:nvPr/>
              </p:nvGrpSpPr>
              <p:grpSpPr>
                <a:xfrm>
                  <a:off x="5502240" y="1241280"/>
                  <a:ext cx="2669760" cy="2768760"/>
                  <a:chOff x="5502240" y="1241280"/>
                  <a:chExt cx="2669760" cy="2768760"/>
                </a:xfrm>
              </p:grpSpPr>
              <p:sp>
                <p:nvSpPr>
                  <p:cNvPr id="156" name="Oval 38"/>
                  <p:cNvSpPr/>
                  <p:nvPr/>
                </p:nvSpPr>
                <p:spPr>
                  <a:xfrm>
                    <a:off x="5711400" y="1604880"/>
                    <a:ext cx="2287080" cy="227196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Text Box 39"/>
                  <p:cNvSpPr/>
                  <p:nvPr/>
                </p:nvSpPr>
                <p:spPr>
                  <a:xfrm>
                    <a:off x="6260040" y="2540160"/>
                    <a:ext cx="1189080" cy="53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Ti modificad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AutoShape 40"/>
                  <p:cNvSpPr/>
                  <p:nvPr/>
                </p:nvSpPr>
                <p:spPr>
                  <a:xfrm rot="20133000">
                    <a:off x="5985720" y="1471320"/>
                    <a:ext cx="1372320" cy="120276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AutoShape 41"/>
                  <p:cNvSpPr/>
                  <p:nvPr/>
                </p:nvSpPr>
                <p:spPr>
                  <a:xfrm rot="1224000">
                    <a:off x="6351480" y="1471320"/>
                    <a:ext cx="1371960" cy="120276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AutoShape 42"/>
                  <p:cNvSpPr/>
                  <p:nvPr/>
                </p:nvSpPr>
                <p:spPr>
                  <a:xfrm rot="6153000">
                    <a:off x="6791040" y="2535840"/>
                    <a:ext cx="1682280" cy="731520"/>
                  </a:xfrm>
                  <a:prstGeom prst="pie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AutoShape 43"/>
                  <p:cNvSpPr/>
                  <p:nvPr/>
                </p:nvSpPr>
                <p:spPr>
                  <a:xfrm rot="10800000">
                    <a:off x="6168240" y="3074760"/>
                    <a:ext cx="1371960" cy="935280"/>
                  </a:xfrm>
                  <a:prstGeom prst="pie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44"/>
                  <p:cNvSpPr/>
                  <p:nvPr/>
                </p:nvSpPr>
                <p:spPr>
                  <a:xfrm rot="15171600">
                    <a:off x="5281200" y="2703600"/>
                    <a:ext cx="1518840" cy="659160"/>
                  </a:xfrm>
                  <a:prstGeom prst="pie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AutoShape 45"/>
                  <p:cNvSpPr/>
                  <p:nvPr/>
                </p:nvSpPr>
                <p:spPr>
                  <a:xfrm rot="1864200">
                    <a:off x="6060960" y="1738440"/>
                    <a:ext cx="198720" cy="267120"/>
                  </a:xfrm>
                  <a:prstGeom prst="triangle">
                    <a:avLst>
                      <a:gd name="adj" fmla="val 67486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AutoShape 46"/>
                  <p:cNvSpPr/>
                  <p:nvPr/>
                </p:nvSpPr>
                <p:spPr>
                  <a:xfrm rot="19471800">
                    <a:off x="7449480" y="1738080"/>
                    <a:ext cx="182880" cy="267120"/>
                  </a:xfrm>
                  <a:prstGeom prst="triangle">
                    <a:avLst>
                      <a:gd name="adj" fmla="val 45324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Text Box 47"/>
                  <p:cNvSpPr/>
                  <p:nvPr/>
                </p:nvSpPr>
                <p:spPr>
                  <a:xfrm>
                    <a:off x="5894280" y="1604880"/>
                    <a:ext cx="274320" cy="267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I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Text Box 48"/>
                  <p:cNvSpPr/>
                  <p:nvPr/>
                </p:nvSpPr>
                <p:spPr>
                  <a:xfrm>
                    <a:off x="7540920" y="1604880"/>
                    <a:ext cx="274320" cy="267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49"/>
                <p:cNvGrpSpPr/>
                <p:nvPr/>
              </p:nvGrpSpPr>
              <p:grpSpPr>
                <a:xfrm>
                  <a:off x="5894640" y="1070280"/>
                  <a:ext cx="1829520" cy="133560"/>
                  <a:chOff x="5894640" y="1070280"/>
                  <a:chExt cx="1829520" cy="133560"/>
                </a:xfrm>
              </p:grpSpPr>
              <p:sp>
                <p:nvSpPr>
                  <p:cNvPr id="168" name="Line 50"/>
                  <p:cNvSpPr/>
                  <p:nvPr/>
                </p:nvSpPr>
                <p:spPr>
                  <a:xfrm>
                    <a:off x="5894640" y="1070280"/>
                    <a:ext cx="182952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Line 51"/>
                  <p:cNvSpPr/>
                  <p:nvPr/>
                </p:nvSpPr>
                <p:spPr>
                  <a:xfrm>
                    <a:off x="5894640" y="1070280"/>
                    <a:ext cx="0" cy="133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52"/>
                  <p:cNvSpPr/>
                  <p:nvPr/>
                </p:nvSpPr>
                <p:spPr>
                  <a:xfrm>
                    <a:off x="7724160" y="1070280"/>
                    <a:ext cx="0" cy="133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1" name="Line 53"/>
              <p:cNvSpPr/>
              <p:nvPr/>
            </p:nvSpPr>
            <p:spPr>
              <a:xfrm>
                <a:off x="3980880" y="2843280"/>
                <a:ext cx="1387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4"/>
              <p:cNvSpPr/>
              <p:nvPr/>
            </p:nvSpPr>
            <p:spPr>
              <a:xfrm>
                <a:off x="3782880" y="2372400"/>
                <a:ext cx="1684440" cy="47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100" spc="-1" strike="noStrike">
                    <a:solidFill>
                      <a:srgbClr val="ff0000"/>
                    </a:solidFill>
                    <a:latin typeface="Arial"/>
                  </a:rPr>
                  <a:t>Enz. Restricció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100" spc="-1" strike="noStrike">
                    <a:solidFill>
                      <a:srgbClr val="ff0000"/>
                    </a:solidFill>
                    <a:latin typeface="Arial"/>
                  </a:rPr>
                  <a:t>+ Ligas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Text Box 55"/>
            <p:cNvSpPr/>
            <p:nvPr/>
          </p:nvSpPr>
          <p:spPr>
            <a:xfrm>
              <a:off x="2484360" y="189000"/>
              <a:ext cx="446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66"/>
                  </a:solidFill>
                  <a:uFillTx/>
                  <a:latin typeface="Arial"/>
                </a:rPr>
                <a:t>Construcción del vect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56"/>
          <p:cNvGrpSpPr/>
          <p:nvPr/>
        </p:nvGrpSpPr>
        <p:grpSpPr>
          <a:xfrm>
            <a:off x="2930400" y="4083120"/>
            <a:ext cx="3657600" cy="2514600"/>
            <a:chOff x="2930400" y="4083120"/>
            <a:chExt cx="3657600" cy="2514600"/>
          </a:xfrm>
        </p:grpSpPr>
        <p:sp>
          <p:nvSpPr>
            <p:cNvPr id="175" name="Text Box 57"/>
            <p:cNvSpPr/>
            <p:nvPr/>
          </p:nvSpPr>
          <p:spPr>
            <a:xfrm>
              <a:off x="2930400" y="4083120"/>
              <a:ext cx="3657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presentación esquemática de la bacteria A. tumefacie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58"/>
            <p:cNvGrpSpPr/>
            <p:nvPr/>
          </p:nvGrpSpPr>
          <p:grpSpPr>
            <a:xfrm>
              <a:off x="3159000" y="4426200"/>
              <a:ext cx="3047400" cy="1942560"/>
              <a:chOff x="3159000" y="4426200"/>
              <a:chExt cx="3047400" cy="1942560"/>
            </a:xfrm>
          </p:grpSpPr>
          <p:grpSp>
            <p:nvGrpSpPr>
              <p:cNvPr id="177" name="Group 59"/>
              <p:cNvGrpSpPr/>
              <p:nvPr/>
            </p:nvGrpSpPr>
            <p:grpSpPr>
              <a:xfrm>
                <a:off x="3920760" y="4997520"/>
                <a:ext cx="2209320" cy="1028520"/>
                <a:chOff x="3920760" y="4997520"/>
                <a:chExt cx="2209320" cy="1028520"/>
              </a:xfrm>
            </p:grpSpPr>
            <p:sp>
              <p:nvSpPr>
                <p:cNvPr id="178" name="Oval 60"/>
                <p:cNvSpPr/>
                <p:nvPr/>
              </p:nvSpPr>
              <p:spPr>
                <a:xfrm>
                  <a:off x="3920760" y="4997520"/>
                  <a:ext cx="2209320" cy="1028520"/>
                </a:xfrm>
                <a:prstGeom prst="ellipse">
                  <a:avLst/>
                </a:prstGeom>
                <a:noFill/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61"/>
                <p:cNvSpPr/>
                <p:nvPr/>
              </p:nvSpPr>
              <p:spPr>
                <a:xfrm>
                  <a:off x="4289040" y="5187960"/>
                  <a:ext cx="469800" cy="609480"/>
                </a:xfrm>
                <a:prstGeom prst="pi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0" name="Group 62"/>
                <p:cNvGrpSpPr/>
                <p:nvPr/>
              </p:nvGrpSpPr>
              <p:grpSpPr>
                <a:xfrm>
                  <a:off x="5033520" y="5163840"/>
                  <a:ext cx="676440" cy="649440"/>
                  <a:chOff x="5033520" y="5163840"/>
                  <a:chExt cx="676440" cy="649440"/>
                </a:xfrm>
              </p:grpSpPr>
              <p:sp>
                <p:nvSpPr>
                  <p:cNvPr id="181" name="Oval 63"/>
                  <p:cNvSpPr/>
                  <p:nvPr/>
                </p:nvSpPr>
                <p:spPr>
                  <a:xfrm rot="17817600">
                    <a:off x="5112000" y="5242320"/>
                    <a:ext cx="457200" cy="4572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AutoShape 64"/>
                  <p:cNvSpPr/>
                  <p:nvPr/>
                </p:nvSpPr>
                <p:spPr>
                  <a:xfrm rot="7300200">
                    <a:off x="5166720" y="5270040"/>
                    <a:ext cx="457200" cy="45720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3" name="Line 65"/>
              <p:cNvSpPr/>
              <p:nvPr/>
            </p:nvSpPr>
            <p:spPr>
              <a:xfrm>
                <a:off x="5368680" y="45849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6"/>
              <p:cNvSpPr/>
              <p:nvPr/>
            </p:nvSpPr>
            <p:spPr>
              <a:xfrm>
                <a:off x="4987440" y="4426200"/>
                <a:ext cx="76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lásmido T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67"/>
              <p:cNvSpPr/>
              <p:nvPr/>
            </p:nvSpPr>
            <p:spPr>
              <a:xfrm>
                <a:off x="5749560" y="6140520"/>
                <a:ext cx="45684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DN-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68"/>
              <p:cNvSpPr/>
              <p:nvPr/>
            </p:nvSpPr>
            <p:spPr>
              <a:xfrm flipH="1" flipV="1">
                <a:off x="5597280" y="5683320"/>
                <a:ext cx="3045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9"/>
              <p:cNvSpPr/>
              <p:nvPr/>
            </p:nvSpPr>
            <p:spPr>
              <a:xfrm>
                <a:off x="3159000" y="4768920"/>
                <a:ext cx="76176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romoso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70"/>
              <p:cNvSpPr/>
              <p:nvPr/>
            </p:nvSpPr>
            <p:spPr>
              <a:xfrm>
                <a:off x="3920760" y="4883400"/>
                <a:ext cx="380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Rectangle 71"/>
            <p:cNvSpPr/>
            <p:nvPr/>
          </p:nvSpPr>
          <p:spPr>
            <a:xfrm>
              <a:off x="2930400" y="4311720"/>
              <a:ext cx="3504960" cy="228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1357200" y="1557360"/>
            <a:ext cx="6167160" cy="4228920"/>
            <a:chOff x="1357200" y="1557360"/>
            <a:chExt cx="6167160" cy="4228920"/>
          </a:xfrm>
        </p:grpSpPr>
        <p:grpSp>
          <p:nvGrpSpPr>
            <p:cNvPr id="191" name="Group 3"/>
            <p:cNvGrpSpPr/>
            <p:nvPr/>
          </p:nvGrpSpPr>
          <p:grpSpPr>
            <a:xfrm>
              <a:off x="1357200" y="1694160"/>
              <a:ext cx="3443400" cy="4092120"/>
              <a:chOff x="1357200" y="1694160"/>
              <a:chExt cx="3443400" cy="4092120"/>
            </a:xfrm>
          </p:grpSpPr>
          <p:grpSp>
            <p:nvGrpSpPr>
              <p:cNvPr id="192" name="Group 4"/>
              <p:cNvGrpSpPr/>
              <p:nvPr/>
            </p:nvGrpSpPr>
            <p:grpSpPr>
              <a:xfrm>
                <a:off x="1757520" y="5100480"/>
                <a:ext cx="2162160" cy="685800"/>
                <a:chOff x="1757520" y="5100480"/>
                <a:chExt cx="2162160" cy="685800"/>
              </a:xfrm>
            </p:grpSpPr>
            <p:grpSp>
              <p:nvGrpSpPr>
                <p:cNvPr id="193" name="Group 5"/>
                <p:cNvGrpSpPr/>
                <p:nvPr/>
              </p:nvGrpSpPr>
              <p:grpSpPr>
                <a:xfrm>
                  <a:off x="1757520" y="5100480"/>
                  <a:ext cx="2162160" cy="685800"/>
                  <a:chOff x="1757520" y="5100480"/>
                  <a:chExt cx="2162160" cy="685800"/>
                </a:xfrm>
              </p:grpSpPr>
              <p:sp>
                <p:nvSpPr>
                  <p:cNvPr id="194" name="Oval 6"/>
                  <p:cNvSpPr/>
                  <p:nvPr/>
                </p:nvSpPr>
                <p:spPr>
                  <a:xfrm>
                    <a:off x="1757520" y="5100480"/>
                    <a:ext cx="2162160" cy="489960"/>
                  </a:xfrm>
                  <a:prstGeom prst="ellipse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Oval 7"/>
                  <p:cNvSpPr/>
                  <p:nvPr/>
                </p:nvSpPr>
                <p:spPr>
                  <a:xfrm>
                    <a:off x="1757520" y="5296320"/>
                    <a:ext cx="2162160" cy="489960"/>
                  </a:xfrm>
                  <a:prstGeom prst="ellipse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8"/>
                  <p:cNvSpPr/>
                  <p:nvPr/>
                </p:nvSpPr>
                <p:spPr>
                  <a:xfrm>
                    <a:off x="1757520" y="5312160"/>
                    <a:ext cx="0" cy="266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9"/>
                  <p:cNvSpPr/>
                  <p:nvPr/>
                </p:nvSpPr>
                <p:spPr>
                  <a:xfrm>
                    <a:off x="3919680" y="5312160"/>
                    <a:ext cx="0" cy="2667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Oval 10"/>
                <p:cNvSpPr/>
                <p:nvPr/>
              </p:nvSpPr>
              <p:spPr>
                <a:xfrm>
                  <a:off x="2117880" y="5339880"/>
                  <a:ext cx="216000" cy="9792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11"/>
                <p:cNvSpPr/>
                <p:nvPr/>
              </p:nvSpPr>
              <p:spPr>
                <a:xfrm>
                  <a:off x="2334240" y="5470560"/>
                  <a:ext cx="216000" cy="9756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12"/>
                <p:cNvSpPr/>
                <p:nvPr/>
              </p:nvSpPr>
              <p:spPr>
                <a:xfrm>
                  <a:off x="3342960" y="5339880"/>
                  <a:ext cx="216000" cy="9792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13"/>
                <p:cNvSpPr/>
                <p:nvPr/>
              </p:nvSpPr>
              <p:spPr>
                <a:xfrm>
                  <a:off x="2694600" y="5437800"/>
                  <a:ext cx="216000" cy="9792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14"/>
                <p:cNvSpPr/>
                <p:nvPr/>
              </p:nvSpPr>
              <p:spPr>
                <a:xfrm>
                  <a:off x="3126960" y="5437800"/>
                  <a:ext cx="216000" cy="9792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15"/>
                <p:cNvSpPr/>
                <p:nvPr/>
              </p:nvSpPr>
              <p:spPr>
                <a:xfrm>
                  <a:off x="2478240" y="5339880"/>
                  <a:ext cx="216000" cy="9792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16"/>
                <p:cNvSpPr/>
                <p:nvPr/>
              </p:nvSpPr>
              <p:spPr>
                <a:xfrm>
                  <a:off x="2910600" y="5339880"/>
                  <a:ext cx="216000" cy="9792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Text Box 17"/>
              <p:cNvSpPr/>
              <p:nvPr/>
            </p:nvSpPr>
            <p:spPr>
              <a:xfrm>
                <a:off x="3679560" y="2014200"/>
                <a:ext cx="11210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DN de interé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transgen + gen marcador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18"/>
              <p:cNvGrpSpPr/>
              <p:nvPr/>
            </p:nvGrpSpPr>
            <p:grpSpPr>
              <a:xfrm>
                <a:off x="1677600" y="1694160"/>
                <a:ext cx="3036600" cy="3520080"/>
                <a:chOff x="1677600" y="1694160"/>
                <a:chExt cx="3036600" cy="3520080"/>
              </a:xfrm>
            </p:grpSpPr>
            <p:sp>
              <p:nvSpPr>
                <p:cNvPr id="207" name="Text Box 19"/>
                <p:cNvSpPr/>
                <p:nvPr/>
              </p:nvSpPr>
              <p:spPr>
                <a:xfrm>
                  <a:off x="2077920" y="2014200"/>
                  <a:ext cx="2401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i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AutoShape 20"/>
                <p:cNvSpPr/>
                <p:nvPr/>
              </p:nvSpPr>
              <p:spPr>
                <a:xfrm rot="7300200">
                  <a:off x="3290760" y="1774080"/>
                  <a:ext cx="456840" cy="4802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9" name="Group 21"/>
                <p:cNvGrpSpPr/>
                <p:nvPr/>
              </p:nvGrpSpPr>
              <p:grpSpPr>
                <a:xfrm>
                  <a:off x="1840320" y="1815840"/>
                  <a:ext cx="642240" cy="630720"/>
                  <a:chOff x="1840320" y="1815840"/>
                  <a:chExt cx="642240" cy="630720"/>
                </a:xfrm>
              </p:grpSpPr>
              <p:sp>
                <p:nvSpPr>
                  <p:cNvPr id="210" name="Oval 22"/>
                  <p:cNvSpPr/>
                  <p:nvPr/>
                </p:nvSpPr>
                <p:spPr>
                  <a:xfrm rot="17817600">
                    <a:off x="1904040" y="1903320"/>
                    <a:ext cx="456840" cy="4237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AutoShape 23"/>
                  <p:cNvSpPr/>
                  <p:nvPr/>
                </p:nvSpPr>
                <p:spPr>
                  <a:xfrm rot="7300200">
                    <a:off x="1953720" y="1928880"/>
                    <a:ext cx="456840" cy="42372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24"/>
                <p:cNvGrpSpPr/>
                <p:nvPr/>
              </p:nvGrpSpPr>
              <p:grpSpPr>
                <a:xfrm>
                  <a:off x="2563920" y="2958120"/>
                  <a:ext cx="639360" cy="619560"/>
                  <a:chOff x="2563920" y="2958120"/>
                  <a:chExt cx="639360" cy="619560"/>
                </a:xfrm>
              </p:grpSpPr>
              <p:grpSp>
                <p:nvGrpSpPr>
                  <p:cNvPr id="213" name="Group 25"/>
                  <p:cNvGrpSpPr/>
                  <p:nvPr/>
                </p:nvGrpSpPr>
                <p:grpSpPr>
                  <a:xfrm>
                    <a:off x="2563920" y="2958120"/>
                    <a:ext cx="636120" cy="619200"/>
                    <a:chOff x="2563920" y="2958120"/>
                    <a:chExt cx="636120" cy="619200"/>
                  </a:xfrm>
                </p:grpSpPr>
                <p:sp>
                  <p:nvSpPr>
                    <p:cNvPr id="214" name="Oval 26"/>
                    <p:cNvSpPr/>
                    <p:nvPr/>
                  </p:nvSpPr>
                  <p:spPr>
                    <a:xfrm rot="17817600">
                      <a:off x="2631240" y="3039840"/>
                      <a:ext cx="443880" cy="423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AutoShape 27"/>
                    <p:cNvSpPr/>
                    <p:nvPr/>
                  </p:nvSpPr>
                  <p:spPr>
                    <a:xfrm rot="7300200">
                      <a:off x="2680920" y="3065400"/>
                      <a:ext cx="443880" cy="423720"/>
                    </a:xfrm>
                    <a:prstGeom prst="pi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6" name="AutoShape 28"/>
                  <p:cNvSpPr/>
                  <p:nvPr/>
                </p:nvSpPr>
                <p:spPr>
                  <a:xfrm rot="7300200">
                    <a:off x="2684160" y="3065760"/>
                    <a:ext cx="443880" cy="42372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29"/>
                <p:cNvGrpSpPr/>
                <p:nvPr/>
              </p:nvGrpSpPr>
              <p:grpSpPr>
                <a:xfrm>
                  <a:off x="2157840" y="4071600"/>
                  <a:ext cx="1441440" cy="685440"/>
                  <a:chOff x="2157840" y="4071600"/>
                  <a:chExt cx="1441440" cy="685440"/>
                </a:xfrm>
              </p:grpSpPr>
              <p:sp>
                <p:nvSpPr>
                  <p:cNvPr id="218" name="Oval 30"/>
                  <p:cNvSpPr/>
                  <p:nvPr/>
                </p:nvSpPr>
                <p:spPr>
                  <a:xfrm>
                    <a:off x="2157840" y="4071600"/>
                    <a:ext cx="1441440" cy="685440"/>
                  </a:xfrm>
                  <a:prstGeom prst="ellipse">
                    <a:avLst/>
                  </a:prstGeom>
                  <a:noFill/>
                  <a:ln w="475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31"/>
                  <p:cNvSpPr/>
                  <p:nvPr/>
                </p:nvSpPr>
                <p:spPr>
                  <a:xfrm>
                    <a:off x="2397960" y="4198320"/>
                    <a:ext cx="306360" cy="406080"/>
                  </a:xfrm>
                  <a:prstGeom prst="pi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0" name="Group 32"/>
                  <p:cNvGrpSpPr/>
                  <p:nvPr/>
                </p:nvGrpSpPr>
                <p:grpSpPr>
                  <a:xfrm>
                    <a:off x="2862360" y="4163760"/>
                    <a:ext cx="446040" cy="429120"/>
                    <a:chOff x="2862360" y="4163760"/>
                    <a:chExt cx="446040" cy="429120"/>
                  </a:xfrm>
                </p:grpSpPr>
                <p:grpSp>
                  <p:nvGrpSpPr>
                    <p:cNvPr id="221" name="Group 33"/>
                    <p:cNvGrpSpPr/>
                    <p:nvPr/>
                  </p:nvGrpSpPr>
                  <p:grpSpPr>
                    <a:xfrm>
                      <a:off x="2862360" y="4163760"/>
                      <a:ext cx="443880" cy="429120"/>
                      <a:chOff x="2862360" y="4163760"/>
                      <a:chExt cx="443880" cy="429120"/>
                    </a:xfrm>
                  </p:grpSpPr>
                  <p:sp>
                    <p:nvSpPr>
                      <p:cNvPr id="222" name="Oval 34"/>
                      <p:cNvSpPr/>
                      <p:nvPr/>
                    </p:nvSpPr>
                    <p:spPr>
                      <a:xfrm rot="17817600">
                        <a:off x="2912040" y="4217760"/>
                        <a:ext cx="304560" cy="298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3" name="AutoShape 35"/>
                      <p:cNvSpPr/>
                      <p:nvPr/>
                    </p:nvSpPr>
                    <p:spPr>
                      <a:xfrm rot="7300200">
                        <a:off x="2946960" y="4235400"/>
                        <a:ext cx="304560" cy="298440"/>
                      </a:xfrm>
                      <a:prstGeom prst="pie">
                        <a:avLst/>
                      </a:prstGeom>
                      <a:solidFill>
                        <a:srgbClr val="80808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24" name="AutoShape 36"/>
                    <p:cNvSpPr/>
                    <p:nvPr/>
                  </p:nvSpPr>
                  <p:spPr>
                    <a:xfrm rot="7300200">
                      <a:off x="2949120" y="4235040"/>
                      <a:ext cx="304560" cy="29844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25" name="Text Box 37"/>
                <p:cNvSpPr/>
                <p:nvPr/>
              </p:nvSpPr>
              <p:spPr>
                <a:xfrm>
                  <a:off x="2958840" y="2585880"/>
                  <a:ext cx="128124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nstrucción del vector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Text Box 38"/>
                <p:cNvSpPr/>
                <p:nvPr/>
              </p:nvSpPr>
              <p:spPr>
                <a:xfrm>
                  <a:off x="1677600" y="2357280"/>
                  <a:ext cx="11210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lásmido bacterian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7" name="Group 39"/>
                <p:cNvGrpSpPr/>
                <p:nvPr/>
              </p:nvGrpSpPr>
              <p:grpSpPr>
                <a:xfrm>
                  <a:off x="1993320" y="2128680"/>
                  <a:ext cx="1445400" cy="892080"/>
                  <a:chOff x="1993320" y="2128680"/>
                  <a:chExt cx="1445400" cy="892080"/>
                </a:xfrm>
              </p:grpSpPr>
              <p:sp>
                <p:nvSpPr>
                  <p:cNvPr id="228" name="AutoShape 40"/>
                  <p:cNvSpPr/>
                  <p:nvPr/>
                </p:nvSpPr>
                <p:spPr>
                  <a:xfrm rot="7300200">
                    <a:off x="2089080" y="2459520"/>
                    <a:ext cx="457200" cy="480600"/>
                  </a:xfrm>
                  <a:prstGeom prst="pi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9" name="Group 41"/>
                  <p:cNvGrpSpPr/>
                  <p:nvPr/>
                </p:nvGrpSpPr>
                <p:grpSpPr>
                  <a:xfrm>
                    <a:off x="2478240" y="2128680"/>
                    <a:ext cx="960480" cy="799920"/>
                    <a:chOff x="2478240" y="2128680"/>
                    <a:chExt cx="960480" cy="799920"/>
                  </a:xfrm>
                </p:grpSpPr>
                <p:sp>
                  <p:nvSpPr>
                    <p:cNvPr id="230" name="Line 42"/>
                    <p:cNvSpPr/>
                    <p:nvPr/>
                  </p:nvSpPr>
                  <p:spPr>
                    <a:xfrm>
                      <a:off x="2478240" y="2128680"/>
                      <a:ext cx="400320" cy="342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Line 43"/>
                    <p:cNvSpPr/>
                    <p:nvPr/>
                  </p:nvSpPr>
                  <p:spPr>
                    <a:xfrm flipH="1">
                      <a:off x="2878200" y="2242800"/>
                      <a:ext cx="560520" cy="228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Line 44"/>
                    <p:cNvSpPr/>
                    <p:nvPr/>
                  </p:nvSpPr>
                  <p:spPr>
                    <a:xfrm>
                      <a:off x="2878560" y="247140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3" name="Arc 45"/>
                  <p:cNvSpPr/>
                  <p:nvPr/>
                </p:nvSpPr>
                <p:spPr>
                  <a:xfrm flipV="1">
                    <a:off x="2638440" y="2557800"/>
                    <a:ext cx="240120" cy="142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Text Box 46"/>
                <p:cNvSpPr/>
                <p:nvPr/>
              </p:nvSpPr>
              <p:spPr>
                <a:xfrm>
                  <a:off x="3199320" y="3157200"/>
                  <a:ext cx="112104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Vect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(plásmido + transgen + gen marcador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47"/>
                <p:cNvSpPr/>
                <p:nvPr/>
              </p:nvSpPr>
              <p:spPr>
                <a:xfrm>
                  <a:off x="2878560" y="3614400"/>
                  <a:ext cx="0" cy="34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Text Box 48"/>
                <p:cNvSpPr/>
                <p:nvPr/>
              </p:nvSpPr>
              <p:spPr>
                <a:xfrm>
                  <a:off x="1757520" y="3614400"/>
                  <a:ext cx="112104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Incorporación del Vector en Agrobacterium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Text Box 49"/>
                <p:cNvSpPr/>
                <p:nvPr/>
              </p:nvSpPr>
              <p:spPr>
                <a:xfrm>
                  <a:off x="3599640" y="4528800"/>
                  <a:ext cx="111456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grobacterium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50"/>
                <p:cNvSpPr/>
                <p:nvPr/>
              </p:nvSpPr>
              <p:spPr>
                <a:xfrm>
                  <a:off x="2878560" y="475740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" name="Text Box 51"/>
              <p:cNvSpPr/>
              <p:nvPr/>
            </p:nvSpPr>
            <p:spPr>
              <a:xfrm>
                <a:off x="1357200" y="4643280"/>
                <a:ext cx="11210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noculación de Agrobacterium en medio selectivo con explant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52"/>
            <p:cNvGrpSpPr/>
            <p:nvPr/>
          </p:nvGrpSpPr>
          <p:grpSpPr>
            <a:xfrm>
              <a:off x="4881240" y="2471760"/>
              <a:ext cx="2643120" cy="3200040"/>
              <a:chOff x="4881240" y="2471760"/>
              <a:chExt cx="2643120" cy="3200040"/>
            </a:xfrm>
          </p:grpSpPr>
          <p:grpSp>
            <p:nvGrpSpPr>
              <p:cNvPr id="241" name="Group 53"/>
              <p:cNvGrpSpPr/>
              <p:nvPr/>
            </p:nvGrpSpPr>
            <p:grpSpPr>
              <a:xfrm>
                <a:off x="4881240" y="2471760"/>
                <a:ext cx="2082600" cy="3200040"/>
                <a:chOff x="4881240" y="2471760"/>
                <a:chExt cx="2082600" cy="3200040"/>
              </a:xfrm>
            </p:grpSpPr>
            <p:grpSp>
              <p:nvGrpSpPr>
                <p:cNvPr id="242" name="Group 54"/>
                <p:cNvGrpSpPr/>
                <p:nvPr/>
              </p:nvGrpSpPr>
              <p:grpSpPr>
                <a:xfrm>
                  <a:off x="4881240" y="4986360"/>
                  <a:ext cx="2082600" cy="685440"/>
                  <a:chOff x="4881240" y="4986360"/>
                  <a:chExt cx="2082600" cy="685440"/>
                </a:xfrm>
              </p:grpSpPr>
              <p:grpSp>
                <p:nvGrpSpPr>
                  <p:cNvPr id="243" name="Group 55"/>
                  <p:cNvGrpSpPr/>
                  <p:nvPr/>
                </p:nvGrpSpPr>
                <p:grpSpPr>
                  <a:xfrm>
                    <a:off x="4881240" y="4986360"/>
                    <a:ext cx="2082600" cy="685440"/>
                    <a:chOff x="4881240" y="4986360"/>
                    <a:chExt cx="2082600" cy="685440"/>
                  </a:xfrm>
                </p:grpSpPr>
                <p:sp>
                  <p:nvSpPr>
                    <p:cNvPr id="244" name="Oval 56"/>
                    <p:cNvSpPr/>
                    <p:nvPr/>
                  </p:nvSpPr>
                  <p:spPr>
                    <a:xfrm>
                      <a:off x="4881240" y="4986360"/>
                      <a:ext cx="2082600" cy="48960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Oval 57"/>
                    <p:cNvSpPr/>
                    <p:nvPr/>
                  </p:nvSpPr>
                  <p:spPr>
                    <a:xfrm>
                      <a:off x="4881240" y="5182200"/>
                      <a:ext cx="2082600" cy="48960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58"/>
                    <p:cNvSpPr/>
                    <p:nvPr/>
                  </p:nvSpPr>
                  <p:spPr>
                    <a:xfrm>
                      <a:off x="4881240" y="5197680"/>
                      <a:ext cx="0" cy="26640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59"/>
                    <p:cNvSpPr/>
                    <p:nvPr/>
                  </p:nvSpPr>
                  <p:spPr>
                    <a:xfrm>
                      <a:off x="6963840" y="5197680"/>
                      <a:ext cx="0" cy="26640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8" name="Oval 60"/>
                  <p:cNvSpPr/>
                  <p:nvPr/>
                </p:nvSpPr>
                <p:spPr>
                  <a:xfrm>
                    <a:off x="5228280" y="5225760"/>
                    <a:ext cx="208080" cy="97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Oval 61"/>
                  <p:cNvSpPr/>
                  <p:nvPr/>
                </p:nvSpPr>
                <p:spPr>
                  <a:xfrm>
                    <a:off x="5436720" y="5356440"/>
                    <a:ext cx="208080" cy="97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Oval 62"/>
                  <p:cNvSpPr/>
                  <p:nvPr/>
                </p:nvSpPr>
                <p:spPr>
                  <a:xfrm>
                    <a:off x="6408360" y="5225760"/>
                    <a:ext cx="208080" cy="97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63"/>
                  <p:cNvSpPr/>
                  <p:nvPr/>
                </p:nvSpPr>
                <p:spPr>
                  <a:xfrm>
                    <a:off x="5783760" y="5323680"/>
                    <a:ext cx="208080" cy="97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Oval 64"/>
                  <p:cNvSpPr/>
                  <p:nvPr/>
                </p:nvSpPr>
                <p:spPr>
                  <a:xfrm>
                    <a:off x="6200280" y="5323680"/>
                    <a:ext cx="208080" cy="97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Oval 65"/>
                  <p:cNvSpPr/>
                  <p:nvPr/>
                </p:nvSpPr>
                <p:spPr>
                  <a:xfrm>
                    <a:off x="5575320" y="5225760"/>
                    <a:ext cx="208080" cy="97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Oval 66"/>
                  <p:cNvSpPr/>
                  <p:nvPr/>
                </p:nvSpPr>
                <p:spPr>
                  <a:xfrm>
                    <a:off x="5991840" y="5225760"/>
                    <a:ext cx="208080" cy="97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Group 67"/>
                <p:cNvGrpSpPr/>
                <p:nvPr/>
              </p:nvGrpSpPr>
              <p:grpSpPr>
                <a:xfrm>
                  <a:off x="5361840" y="2471760"/>
                  <a:ext cx="961200" cy="2857320"/>
                  <a:chOff x="5361840" y="2471760"/>
                  <a:chExt cx="961200" cy="2857320"/>
                </a:xfrm>
              </p:grpSpPr>
              <p:grpSp>
                <p:nvGrpSpPr>
                  <p:cNvPr id="256" name="Group 68"/>
                  <p:cNvGrpSpPr/>
                  <p:nvPr/>
                </p:nvGrpSpPr>
                <p:grpSpPr>
                  <a:xfrm>
                    <a:off x="5361840" y="2471760"/>
                    <a:ext cx="961200" cy="456840"/>
                    <a:chOff x="5361840" y="2471760"/>
                    <a:chExt cx="961200" cy="456840"/>
                  </a:xfrm>
                </p:grpSpPr>
                <p:sp>
                  <p:nvSpPr>
                    <p:cNvPr id="257" name="Oval 69"/>
                    <p:cNvSpPr/>
                    <p:nvPr/>
                  </p:nvSpPr>
                  <p:spPr>
                    <a:xfrm>
                      <a:off x="5473800" y="2471760"/>
                      <a:ext cx="4788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Oval 70"/>
                    <p:cNvSpPr/>
                    <p:nvPr/>
                  </p:nvSpPr>
                  <p:spPr>
                    <a:xfrm>
                      <a:off x="5361840" y="2624040"/>
                      <a:ext cx="47880" cy="45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Oval 71"/>
                    <p:cNvSpPr/>
                    <p:nvPr/>
                  </p:nvSpPr>
                  <p:spPr>
                    <a:xfrm>
                      <a:off x="5601960" y="2700360"/>
                      <a:ext cx="47880" cy="45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Oval 72"/>
                    <p:cNvSpPr/>
                    <p:nvPr/>
                  </p:nvSpPr>
                  <p:spPr>
                    <a:xfrm>
                      <a:off x="5682240" y="2471760"/>
                      <a:ext cx="4788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Oval 73"/>
                    <p:cNvSpPr/>
                    <p:nvPr/>
                  </p:nvSpPr>
                  <p:spPr>
                    <a:xfrm>
                      <a:off x="5842440" y="2700360"/>
                      <a:ext cx="47880" cy="45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Oval 74"/>
                    <p:cNvSpPr/>
                    <p:nvPr/>
                  </p:nvSpPr>
                  <p:spPr>
                    <a:xfrm>
                      <a:off x="6002640" y="2471760"/>
                      <a:ext cx="4788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Oval 75"/>
                    <p:cNvSpPr/>
                    <p:nvPr/>
                  </p:nvSpPr>
                  <p:spPr>
                    <a:xfrm>
                      <a:off x="5762160" y="2852640"/>
                      <a:ext cx="4788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Oval 76"/>
                    <p:cNvSpPr/>
                    <p:nvPr/>
                  </p:nvSpPr>
                  <p:spPr>
                    <a:xfrm>
                      <a:off x="5954400" y="2883240"/>
                      <a:ext cx="47880" cy="45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Oval 77"/>
                    <p:cNvSpPr/>
                    <p:nvPr/>
                  </p:nvSpPr>
                  <p:spPr>
                    <a:xfrm>
                      <a:off x="6082920" y="2700360"/>
                      <a:ext cx="47880" cy="45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Oval 78"/>
                    <p:cNvSpPr/>
                    <p:nvPr/>
                  </p:nvSpPr>
                  <p:spPr>
                    <a:xfrm>
                      <a:off x="6275160" y="2814840"/>
                      <a:ext cx="47880" cy="45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Oval 79"/>
                    <p:cNvSpPr/>
                    <p:nvPr/>
                  </p:nvSpPr>
                  <p:spPr>
                    <a:xfrm>
                      <a:off x="6243120" y="2585880"/>
                      <a:ext cx="4788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8" name="Oval 80"/>
                  <p:cNvSpPr/>
                  <p:nvPr/>
                </p:nvSpPr>
                <p:spPr>
                  <a:xfrm>
                    <a:off x="5794200" y="448344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81"/>
                  <p:cNvSpPr/>
                  <p:nvPr/>
                </p:nvSpPr>
                <p:spPr>
                  <a:xfrm>
                    <a:off x="5794200" y="475776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82"/>
                  <p:cNvSpPr/>
                  <p:nvPr/>
                </p:nvSpPr>
                <p:spPr>
                  <a:xfrm>
                    <a:off x="5601960" y="498672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Oval 83"/>
                  <p:cNvSpPr/>
                  <p:nvPr/>
                </p:nvSpPr>
                <p:spPr>
                  <a:xfrm>
                    <a:off x="5842440" y="441504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Oval 84"/>
                  <p:cNvSpPr/>
                  <p:nvPr/>
                </p:nvSpPr>
                <p:spPr>
                  <a:xfrm>
                    <a:off x="5762160" y="459792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Oval 85"/>
                  <p:cNvSpPr/>
                  <p:nvPr/>
                </p:nvSpPr>
                <p:spPr>
                  <a:xfrm>
                    <a:off x="5922360" y="441504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Oval 86"/>
                  <p:cNvSpPr/>
                  <p:nvPr/>
                </p:nvSpPr>
                <p:spPr>
                  <a:xfrm>
                    <a:off x="5682240" y="479592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Oval 87"/>
                  <p:cNvSpPr/>
                  <p:nvPr/>
                </p:nvSpPr>
                <p:spPr>
                  <a:xfrm>
                    <a:off x="5922360" y="464364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Oval 88"/>
                  <p:cNvSpPr/>
                  <p:nvPr/>
                </p:nvSpPr>
                <p:spPr>
                  <a:xfrm>
                    <a:off x="6002640" y="464364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Oval 89"/>
                  <p:cNvSpPr/>
                  <p:nvPr/>
                </p:nvSpPr>
                <p:spPr>
                  <a:xfrm>
                    <a:off x="5762160" y="494064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Oval 90"/>
                  <p:cNvSpPr/>
                  <p:nvPr/>
                </p:nvSpPr>
                <p:spPr>
                  <a:xfrm>
                    <a:off x="5954400" y="452916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91"/>
                  <p:cNvSpPr/>
                  <p:nvPr/>
                </p:nvSpPr>
                <p:spPr>
                  <a:xfrm rot="5400000">
                    <a:off x="5195880" y="3448440"/>
                    <a:ext cx="1371600" cy="560520"/>
                  </a:xfrm>
                  <a:custGeom>
                    <a:avLst/>
                    <a:gdLst>
                      <a:gd name="textAreaLeft" fmla="*/ 0 w 1371600"/>
                      <a:gd name="textAreaRight" fmla="*/ 1371960 w 1371600"/>
                      <a:gd name="textAreaTop" fmla="*/ 0 h 560520"/>
                      <a:gd name="textAreaBottom" fmla="*/ 560880 h 56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AutoShape 92"/>
                  <p:cNvSpPr/>
                  <p:nvPr/>
                </p:nvSpPr>
                <p:spPr>
                  <a:xfrm rot="10800000">
                    <a:off x="5842440" y="3043080"/>
                    <a:ext cx="79920" cy="1371600"/>
                  </a:xfrm>
                  <a:prstGeom prst="can">
                    <a:avLst>
                      <a:gd name="adj" fmla="val 4861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Oval 93"/>
                  <p:cNvSpPr/>
                  <p:nvPr/>
                </p:nvSpPr>
                <p:spPr>
                  <a:xfrm>
                    <a:off x="6082920" y="479592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Oval 94"/>
                  <p:cNvSpPr/>
                  <p:nvPr/>
                </p:nvSpPr>
                <p:spPr>
                  <a:xfrm>
                    <a:off x="6114600" y="494856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Oval 95"/>
                  <p:cNvSpPr/>
                  <p:nvPr/>
                </p:nvSpPr>
                <p:spPr>
                  <a:xfrm>
                    <a:off x="5682240" y="528372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Oval 96"/>
                  <p:cNvSpPr/>
                  <p:nvPr/>
                </p:nvSpPr>
                <p:spPr>
                  <a:xfrm>
                    <a:off x="5522040" y="516960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Oval 97"/>
                  <p:cNvSpPr/>
                  <p:nvPr/>
                </p:nvSpPr>
                <p:spPr>
                  <a:xfrm>
                    <a:off x="5922360" y="487224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Oval 98"/>
                  <p:cNvSpPr/>
                  <p:nvPr/>
                </p:nvSpPr>
                <p:spPr>
                  <a:xfrm>
                    <a:off x="5922360" y="475776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Oval 99"/>
                  <p:cNvSpPr/>
                  <p:nvPr/>
                </p:nvSpPr>
                <p:spPr>
                  <a:xfrm>
                    <a:off x="6194880" y="510084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Oval 100"/>
                  <p:cNvSpPr/>
                  <p:nvPr/>
                </p:nvSpPr>
                <p:spPr>
                  <a:xfrm>
                    <a:off x="6243120" y="525312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Oval 101"/>
                  <p:cNvSpPr/>
                  <p:nvPr/>
                </p:nvSpPr>
                <p:spPr>
                  <a:xfrm>
                    <a:off x="5714280" y="516960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Oval 102"/>
                  <p:cNvSpPr/>
                  <p:nvPr/>
                </p:nvSpPr>
                <p:spPr>
                  <a:xfrm>
                    <a:off x="5954400" y="521496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Oval 103"/>
                  <p:cNvSpPr/>
                  <p:nvPr/>
                </p:nvSpPr>
                <p:spPr>
                  <a:xfrm>
                    <a:off x="5954400" y="505512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Oval 104"/>
                  <p:cNvSpPr/>
                  <p:nvPr/>
                </p:nvSpPr>
                <p:spPr>
                  <a:xfrm>
                    <a:off x="5842440" y="372168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Oval 105"/>
                  <p:cNvSpPr/>
                  <p:nvPr/>
                </p:nvSpPr>
                <p:spPr>
                  <a:xfrm>
                    <a:off x="5842440" y="387396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Oval 106"/>
                  <p:cNvSpPr/>
                  <p:nvPr/>
                </p:nvSpPr>
                <p:spPr>
                  <a:xfrm>
                    <a:off x="5842440" y="402624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Oval 107"/>
                  <p:cNvSpPr/>
                  <p:nvPr/>
                </p:nvSpPr>
                <p:spPr>
                  <a:xfrm>
                    <a:off x="5842440" y="417888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Oval 108"/>
                  <p:cNvSpPr/>
                  <p:nvPr/>
                </p:nvSpPr>
                <p:spPr>
                  <a:xfrm>
                    <a:off x="5842440" y="338616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Oval 109"/>
                  <p:cNvSpPr/>
                  <p:nvPr/>
                </p:nvSpPr>
                <p:spPr>
                  <a:xfrm>
                    <a:off x="5842440" y="3569040"/>
                    <a:ext cx="478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Oval 110"/>
                  <p:cNvSpPr/>
                  <p:nvPr/>
                </p:nvSpPr>
                <p:spPr>
                  <a:xfrm>
                    <a:off x="5842440" y="3157560"/>
                    <a:ext cx="4788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9" name="Text Box 111"/>
              <p:cNvSpPr/>
              <p:nvPr/>
            </p:nvSpPr>
            <p:spPr>
              <a:xfrm>
                <a:off x="6322680" y="2471760"/>
                <a:ext cx="1121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artículas de Au o Tg recubiertas con ADN que posee el gen de interé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112"/>
              <p:cNvSpPr/>
              <p:nvPr/>
            </p:nvSpPr>
            <p:spPr>
              <a:xfrm>
                <a:off x="6242760" y="3500280"/>
                <a:ext cx="112104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añón de partículas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113"/>
              <p:cNvSpPr/>
              <p:nvPr/>
            </p:nvSpPr>
            <p:spPr>
              <a:xfrm>
                <a:off x="6242760" y="4529160"/>
                <a:ext cx="128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ombardeo de partículas al medio selectivo con explant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Text Box 114"/>
            <p:cNvSpPr/>
            <p:nvPr/>
          </p:nvSpPr>
          <p:spPr>
            <a:xfrm>
              <a:off x="1917360" y="1557360"/>
              <a:ext cx="216252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étodo con Agrobacteriu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15"/>
            <p:cNvSpPr/>
            <p:nvPr/>
          </p:nvSpPr>
          <p:spPr>
            <a:xfrm>
              <a:off x="5281560" y="1557360"/>
              <a:ext cx="216252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étodo Biobalíst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116"/>
          <p:cNvSpPr/>
          <p:nvPr/>
        </p:nvSpPr>
        <p:spPr>
          <a:xfrm>
            <a:off x="396720" y="476280"/>
            <a:ext cx="835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00"/>
                </a:solidFill>
                <a:uFillTx/>
                <a:latin typeface="Arial"/>
              </a:rPr>
              <a:t>Métodos biológico y biobalístico de transformación de células vege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1619280" y="679320"/>
            <a:ext cx="5714640" cy="5486400"/>
            <a:chOff x="1619280" y="679320"/>
            <a:chExt cx="5714640" cy="5486400"/>
          </a:xfrm>
        </p:grpSpPr>
        <p:grpSp>
          <p:nvGrpSpPr>
            <p:cNvPr id="306" name="Group 3"/>
            <p:cNvGrpSpPr/>
            <p:nvPr/>
          </p:nvGrpSpPr>
          <p:grpSpPr>
            <a:xfrm>
              <a:off x="1619280" y="1479240"/>
              <a:ext cx="5714640" cy="2400120"/>
              <a:chOff x="1619280" y="1479240"/>
              <a:chExt cx="5714640" cy="2400120"/>
            </a:xfrm>
          </p:grpSpPr>
          <p:grpSp>
            <p:nvGrpSpPr>
              <p:cNvPr id="307" name="Group 4"/>
              <p:cNvGrpSpPr/>
              <p:nvPr/>
            </p:nvGrpSpPr>
            <p:grpSpPr>
              <a:xfrm>
                <a:off x="3524040" y="1707480"/>
                <a:ext cx="1752480" cy="799920"/>
                <a:chOff x="3524040" y="1707480"/>
                <a:chExt cx="1752480" cy="799920"/>
              </a:xfrm>
            </p:grpSpPr>
            <p:grpSp>
              <p:nvGrpSpPr>
                <p:cNvPr id="308" name="Group 5"/>
                <p:cNvGrpSpPr/>
                <p:nvPr/>
              </p:nvGrpSpPr>
              <p:grpSpPr>
                <a:xfrm>
                  <a:off x="4692240" y="1907280"/>
                  <a:ext cx="389160" cy="399960"/>
                  <a:chOff x="4692240" y="1907280"/>
                  <a:chExt cx="389160" cy="399960"/>
                </a:xfrm>
              </p:grpSpPr>
              <p:sp>
                <p:nvSpPr>
                  <p:cNvPr id="309" name="Freeform 6"/>
                  <p:cNvSpPr/>
                  <p:nvPr/>
                </p:nvSpPr>
                <p:spPr>
                  <a:xfrm>
                    <a:off x="4746240" y="2007360"/>
                    <a:ext cx="270360" cy="199800"/>
                  </a:xfrm>
                  <a:prstGeom prst="pi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Oval 7"/>
                  <p:cNvSpPr/>
                  <p:nvPr/>
                </p:nvSpPr>
                <p:spPr>
                  <a:xfrm>
                    <a:off x="4692240" y="1907280"/>
                    <a:ext cx="389160" cy="399960"/>
                  </a:xfrm>
                  <a:prstGeom prst="ellipse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1" name="AutoShape 8"/>
                <p:cNvSpPr/>
                <p:nvPr/>
              </p:nvSpPr>
              <p:spPr>
                <a:xfrm>
                  <a:off x="3524040" y="1707480"/>
                  <a:ext cx="1752480" cy="799920"/>
                </a:xfrm>
                <a:prstGeom prst="roundRect">
                  <a:avLst>
                    <a:gd name="adj" fmla="val 16667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AutoShape 9"/>
                <p:cNvSpPr/>
                <p:nvPr/>
              </p:nvSpPr>
              <p:spPr>
                <a:xfrm>
                  <a:off x="3588840" y="1807200"/>
                  <a:ext cx="1622880" cy="60012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Group 10"/>
              <p:cNvGrpSpPr/>
              <p:nvPr/>
            </p:nvGrpSpPr>
            <p:grpSpPr>
              <a:xfrm>
                <a:off x="3143160" y="2850840"/>
                <a:ext cx="2514240" cy="1028520"/>
                <a:chOff x="3143160" y="2850840"/>
                <a:chExt cx="2514240" cy="1028520"/>
              </a:xfrm>
            </p:grpSpPr>
            <p:grpSp>
              <p:nvGrpSpPr>
                <p:cNvPr id="314" name="Group 11"/>
                <p:cNvGrpSpPr/>
                <p:nvPr/>
              </p:nvGrpSpPr>
              <p:grpSpPr>
                <a:xfrm>
                  <a:off x="3143160" y="2850840"/>
                  <a:ext cx="628560" cy="323280"/>
                  <a:chOff x="3143160" y="2850840"/>
                  <a:chExt cx="628560" cy="323280"/>
                </a:xfrm>
              </p:grpSpPr>
              <p:grpSp>
                <p:nvGrpSpPr>
                  <p:cNvPr id="315" name="Group 12"/>
                  <p:cNvGrpSpPr/>
                  <p:nvPr/>
                </p:nvGrpSpPr>
                <p:grpSpPr>
                  <a:xfrm>
                    <a:off x="3562200" y="2931480"/>
                    <a:ext cx="139680" cy="161640"/>
                    <a:chOff x="3562200" y="2931480"/>
                    <a:chExt cx="139680" cy="161640"/>
                  </a:xfrm>
                </p:grpSpPr>
                <p:sp>
                  <p:nvSpPr>
                    <p:cNvPr id="316" name="Freeform 13"/>
                    <p:cNvSpPr/>
                    <p:nvPr/>
                  </p:nvSpPr>
                  <p:spPr>
                    <a:xfrm>
                      <a:off x="3581640" y="2971800"/>
                      <a:ext cx="97200" cy="806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Oval 14"/>
                    <p:cNvSpPr/>
                    <p:nvPr/>
                  </p:nvSpPr>
                  <p:spPr>
                    <a:xfrm>
                      <a:off x="3562200" y="2931480"/>
                      <a:ext cx="139680" cy="16164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8" name="AutoShape 15"/>
                  <p:cNvSpPr/>
                  <p:nvPr/>
                </p:nvSpPr>
                <p:spPr>
                  <a:xfrm>
                    <a:off x="3143160" y="2850840"/>
                    <a:ext cx="628560" cy="32328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AutoShape 16"/>
                  <p:cNvSpPr/>
                  <p:nvPr/>
                </p:nvSpPr>
                <p:spPr>
                  <a:xfrm>
                    <a:off x="3166200" y="2891160"/>
                    <a:ext cx="582120" cy="2426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Group 17"/>
                <p:cNvGrpSpPr/>
                <p:nvPr/>
              </p:nvGrpSpPr>
              <p:grpSpPr>
                <a:xfrm>
                  <a:off x="3771720" y="2850840"/>
                  <a:ext cx="628560" cy="323280"/>
                  <a:chOff x="3771720" y="2850840"/>
                  <a:chExt cx="628560" cy="323280"/>
                </a:xfrm>
              </p:grpSpPr>
              <p:grpSp>
                <p:nvGrpSpPr>
                  <p:cNvPr id="321" name="Group 18"/>
                  <p:cNvGrpSpPr/>
                  <p:nvPr/>
                </p:nvGrpSpPr>
                <p:grpSpPr>
                  <a:xfrm>
                    <a:off x="4190760" y="2931480"/>
                    <a:ext cx="139680" cy="161640"/>
                    <a:chOff x="4190760" y="2931480"/>
                    <a:chExt cx="139680" cy="161640"/>
                  </a:xfrm>
                </p:grpSpPr>
                <p:sp>
                  <p:nvSpPr>
                    <p:cNvPr id="322" name="Freeform 19"/>
                    <p:cNvSpPr/>
                    <p:nvPr/>
                  </p:nvSpPr>
                  <p:spPr>
                    <a:xfrm>
                      <a:off x="4210200" y="2971800"/>
                      <a:ext cx="97200" cy="806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Oval 20"/>
                    <p:cNvSpPr/>
                    <p:nvPr/>
                  </p:nvSpPr>
                  <p:spPr>
                    <a:xfrm>
                      <a:off x="4190760" y="2931480"/>
                      <a:ext cx="139680" cy="16164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4" name="AutoShape 21"/>
                  <p:cNvSpPr/>
                  <p:nvPr/>
                </p:nvSpPr>
                <p:spPr>
                  <a:xfrm>
                    <a:off x="3771720" y="2850840"/>
                    <a:ext cx="628560" cy="32328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AutoShape 22"/>
                  <p:cNvSpPr/>
                  <p:nvPr/>
                </p:nvSpPr>
                <p:spPr>
                  <a:xfrm>
                    <a:off x="3794760" y="2891160"/>
                    <a:ext cx="582120" cy="2426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Group 23"/>
                <p:cNvGrpSpPr/>
                <p:nvPr/>
              </p:nvGrpSpPr>
              <p:grpSpPr>
                <a:xfrm>
                  <a:off x="3457080" y="3203280"/>
                  <a:ext cx="628560" cy="323280"/>
                  <a:chOff x="3457080" y="3203280"/>
                  <a:chExt cx="628560" cy="323280"/>
                </a:xfrm>
              </p:grpSpPr>
              <p:grpSp>
                <p:nvGrpSpPr>
                  <p:cNvPr id="327" name="Group 24"/>
                  <p:cNvGrpSpPr/>
                  <p:nvPr/>
                </p:nvGrpSpPr>
                <p:grpSpPr>
                  <a:xfrm>
                    <a:off x="3876120" y="3283920"/>
                    <a:ext cx="139680" cy="161640"/>
                    <a:chOff x="3876120" y="3283920"/>
                    <a:chExt cx="139680" cy="161640"/>
                  </a:xfrm>
                </p:grpSpPr>
                <p:sp>
                  <p:nvSpPr>
                    <p:cNvPr id="328" name="Freeform 25"/>
                    <p:cNvSpPr/>
                    <p:nvPr/>
                  </p:nvSpPr>
                  <p:spPr>
                    <a:xfrm>
                      <a:off x="3895560" y="3324240"/>
                      <a:ext cx="97200" cy="806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Oval 26"/>
                    <p:cNvSpPr/>
                    <p:nvPr/>
                  </p:nvSpPr>
                  <p:spPr>
                    <a:xfrm>
                      <a:off x="3876120" y="3283920"/>
                      <a:ext cx="139680" cy="16164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0" name="AutoShape 27"/>
                  <p:cNvSpPr/>
                  <p:nvPr/>
                </p:nvSpPr>
                <p:spPr>
                  <a:xfrm>
                    <a:off x="3457080" y="3203280"/>
                    <a:ext cx="628560" cy="32328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utoShape 28"/>
                  <p:cNvSpPr/>
                  <p:nvPr/>
                </p:nvSpPr>
                <p:spPr>
                  <a:xfrm>
                    <a:off x="3480120" y="3243600"/>
                    <a:ext cx="582120" cy="2426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Group 29"/>
                <p:cNvGrpSpPr/>
                <p:nvPr/>
              </p:nvGrpSpPr>
              <p:grpSpPr>
                <a:xfrm>
                  <a:off x="4086000" y="3203280"/>
                  <a:ext cx="628560" cy="323280"/>
                  <a:chOff x="4086000" y="3203280"/>
                  <a:chExt cx="628560" cy="323280"/>
                </a:xfrm>
              </p:grpSpPr>
              <p:grpSp>
                <p:nvGrpSpPr>
                  <p:cNvPr id="333" name="Group 30"/>
                  <p:cNvGrpSpPr/>
                  <p:nvPr/>
                </p:nvGrpSpPr>
                <p:grpSpPr>
                  <a:xfrm>
                    <a:off x="4505040" y="3283920"/>
                    <a:ext cx="139680" cy="161640"/>
                    <a:chOff x="4505040" y="3283920"/>
                    <a:chExt cx="139680" cy="161640"/>
                  </a:xfrm>
                </p:grpSpPr>
                <p:sp>
                  <p:nvSpPr>
                    <p:cNvPr id="334" name="Freeform 31"/>
                    <p:cNvSpPr/>
                    <p:nvPr/>
                  </p:nvSpPr>
                  <p:spPr>
                    <a:xfrm>
                      <a:off x="4524480" y="3324240"/>
                      <a:ext cx="97200" cy="806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Oval 32"/>
                    <p:cNvSpPr/>
                    <p:nvPr/>
                  </p:nvSpPr>
                  <p:spPr>
                    <a:xfrm>
                      <a:off x="4505040" y="3283920"/>
                      <a:ext cx="139680" cy="16164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6" name="AutoShape 33"/>
                  <p:cNvSpPr/>
                  <p:nvPr/>
                </p:nvSpPr>
                <p:spPr>
                  <a:xfrm>
                    <a:off x="4086000" y="3203280"/>
                    <a:ext cx="628560" cy="32328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AutoShape 34"/>
                  <p:cNvSpPr/>
                  <p:nvPr/>
                </p:nvSpPr>
                <p:spPr>
                  <a:xfrm>
                    <a:off x="4109040" y="3243600"/>
                    <a:ext cx="582120" cy="2426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Group 35"/>
                <p:cNvGrpSpPr/>
                <p:nvPr/>
              </p:nvGrpSpPr>
              <p:grpSpPr>
                <a:xfrm>
                  <a:off x="4714560" y="3203280"/>
                  <a:ext cx="628560" cy="323280"/>
                  <a:chOff x="4714560" y="3203280"/>
                  <a:chExt cx="628560" cy="323280"/>
                </a:xfrm>
              </p:grpSpPr>
              <p:grpSp>
                <p:nvGrpSpPr>
                  <p:cNvPr id="339" name="Group 36"/>
                  <p:cNvGrpSpPr/>
                  <p:nvPr/>
                </p:nvGrpSpPr>
                <p:grpSpPr>
                  <a:xfrm>
                    <a:off x="5133600" y="3283920"/>
                    <a:ext cx="139680" cy="161640"/>
                    <a:chOff x="5133600" y="3283920"/>
                    <a:chExt cx="139680" cy="161640"/>
                  </a:xfrm>
                </p:grpSpPr>
                <p:sp>
                  <p:nvSpPr>
                    <p:cNvPr id="340" name="Freeform 37"/>
                    <p:cNvSpPr/>
                    <p:nvPr/>
                  </p:nvSpPr>
                  <p:spPr>
                    <a:xfrm>
                      <a:off x="5153040" y="3324240"/>
                      <a:ext cx="97200" cy="806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Oval 38"/>
                    <p:cNvSpPr/>
                    <p:nvPr/>
                  </p:nvSpPr>
                  <p:spPr>
                    <a:xfrm>
                      <a:off x="5133600" y="3283920"/>
                      <a:ext cx="139680" cy="16164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2" name="AutoShape 39"/>
                  <p:cNvSpPr/>
                  <p:nvPr/>
                </p:nvSpPr>
                <p:spPr>
                  <a:xfrm>
                    <a:off x="4714560" y="3203280"/>
                    <a:ext cx="628560" cy="32328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AutoShape 40"/>
                  <p:cNvSpPr/>
                  <p:nvPr/>
                </p:nvSpPr>
                <p:spPr>
                  <a:xfrm>
                    <a:off x="4737600" y="3243600"/>
                    <a:ext cx="582120" cy="2426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Group 41"/>
                <p:cNvGrpSpPr/>
                <p:nvPr/>
              </p:nvGrpSpPr>
              <p:grpSpPr>
                <a:xfrm>
                  <a:off x="5028840" y="2850840"/>
                  <a:ext cx="628560" cy="323280"/>
                  <a:chOff x="5028840" y="2850840"/>
                  <a:chExt cx="628560" cy="323280"/>
                </a:xfrm>
              </p:grpSpPr>
              <p:grpSp>
                <p:nvGrpSpPr>
                  <p:cNvPr id="345" name="Group 42"/>
                  <p:cNvGrpSpPr/>
                  <p:nvPr/>
                </p:nvGrpSpPr>
                <p:grpSpPr>
                  <a:xfrm>
                    <a:off x="5447880" y="2931480"/>
                    <a:ext cx="139680" cy="161640"/>
                    <a:chOff x="5447880" y="2931480"/>
                    <a:chExt cx="139680" cy="161640"/>
                  </a:xfrm>
                </p:grpSpPr>
                <p:sp>
                  <p:nvSpPr>
                    <p:cNvPr id="346" name="Freeform 43"/>
                    <p:cNvSpPr/>
                    <p:nvPr/>
                  </p:nvSpPr>
                  <p:spPr>
                    <a:xfrm>
                      <a:off x="5467320" y="2971800"/>
                      <a:ext cx="97200" cy="806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Oval 44"/>
                    <p:cNvSpPr/>
                    <p:nvPr/>
                  </p:nvSpPr>
                  <p:spPr>
                    <a:xfrm>
                      <a:off x="5447880" y="2931480"/>
                      <a:ext cx="139680" cy="16164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8" name="AutoShape 45"/>
                  <p:cNvSpPr/>
                  <p:nvPr/>
                </p:nvSpPr>
                <p:spPr>
                  <a:xfrm>
                    <a:off x="5028840" y="2850840"/>
                    <a:ext cx="628560" cy="32328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AutoShape 46"/>
                  <p:cNvSpPr/>
                  <p:nvPr/>
                </p:nvSpPr>
                <p:spPr>
                  <a:xfrm>
                    <a:off x="5051880" y="2891160"/>
                    <a:ext cx="582120" cy="2426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Group 47"/>
                <p:cNvGrpSpPr/>
                <p:nvPr/>
              </p:nvGrpSpPr>
              <p:grpSpPr>
                <a:xfrm>
                  <a:off x="4400280" y="2850840"/>
                  <a:ext cx="628560" cy="323280"/>
                  <a:chOff x="4400280" y="2850840"/>
                  <a:chExt cx="628560" cy="323280"/>
                </a:xfrm>
              </p:grpSpPr>
              <p:grpSp>
                <p:nvGrpSpPr>
                  <p:cNvPr id="351" name="Group 48"/>
                  <p:cNvGrpSpPr/>
                  <p:nvPr/>
                </p:nvGrpSpPr>
                <p:grpSpPr>
                  <a:xfrm>
                    <a:off x="4819320" y="2931480"/>
                    <a:ext cx="139680" cy="161640"/>
                    <a:chOff x="4819320" y="2931480"/>
                    <a:chExt cx="139680" cy="161640"/>
                  </a:xfrm>
                </p:grpSpPr>
                <p:sp>
                  <p:nvSpPr>
                    <p:cNvPr id="352" name="Freeform 49"/>
                    <p:cNvSpPr/>
                    <p:nvPr/>
                  </p:nvSpPr>
                  <p:spPr>
                    <a:xfrm>
                      <a:off x="4838760" y="2971800"/>
                      <a:ext cx="97200" cy="806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Oval 50"/>
                    <p:cNvSpPr/>
                    <p:nvPr/>
                  </p:nvSpPr>
                  <p:spPr>
                    <a:xfrm>
                      <a:off x="4819320" y="2931480"/>
                      <a:ext cx="139680" cy="16164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4" name="AutoShape 51"/>
                  <p:cNvSpPr/>
                  <p:nvPr/>
                </p:nvSpPr>
                <p:spPr>
                  <a:xfrm>
                    <a:off x="4400280" y="2850840"/>
                    <a:ext cx="628560" cy="32328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AutoShape 52"/>
                  <p:cNvSpPr/>
                  <p:nvPr/>
                </p:nvSpPr>
                <p:spPr>
                  <a:xfrm>
                    <a:off x="4423320" y="2891160"/>
                    <a:ext cx="582120" cy="2426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Group 53"/>
                <p:cNvGrpSpPr/>
                <p:nvPr/>
              </p:nvGrpSpPr>
              <p:grpSpPr>
                <a:xfrm>
                  <a:off x="3771720" y="3556080"/>
                  <a:ext cx="628560" cy="323280"/>
                  <a:chOff x="3771720" y="3556080"/>
                  <a:chExt cx="628560" cy="323280"/>
                </a:xfrm>
              </p:grpSpPr>
              <p:grpSp>
                <p:nvGrpSpPr>
                  <p:cNvPr id="357" name="Group 54"/>
                  <p:cNvGrpSpPr/>
                  <p:nvPr/>
                </p:nvGrpSpPr>
                <p:grpSpPr>
                  <a:xfrm>
                    <a:off x="4190760" y="3636720"/>
                    <a:ext cx="139680" cy="161640"/>
                    <a:chOff x="4190760" y="3636720"/>
                    <a:chExt cx="139680" cy="161640"/>
                  </a:xfrm>
                </p:grpSpPr>
                <p:sp>
                  <p:nvSpPr>
                    <p:cNvPr id="358" name="Freeform 55"/>
                    <p:cNvSpPr/>
                    <p:nvPr/>
                  </p:nvSpPr>
                  <p:spPr>
                    <a:xfrm>
                      <a:off x="4210200" y="3677040"/>
                      <a:ext cx="97200" cy="806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Oval 56"/>
                    <p:cNvSpPr/>
                    <p:nvPr/>
                  </p:nvSpPr>
                  <p:spPr>
                    <a:xfrm>
                      <a:off x="4190760" y="3636720"/>
                      <a:ext cx="139680" cy="16164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0" name="AutoShape 57"/>
                  <p:cNvSpPr/>
                  <p:nvPr/>
                </p:nvSpPr>
                <p:spPr>
                  <a:xfrm>
                    <a:off x="3771720" y="3556080"/>
                    <a:ext cx="628560" cy="32328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AutoShape 58"/>
                  <p:cNvSpPr/>
                  <p:nvPr/>
                </p:nvSpPr>
                <p:spPr>
                  <a:xfrm>
                    <a:off x="3794760" y="3596400"/>
                    <a:ext cx="582120" cy="2426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Group 59"/>
                <p:cNvGrpSpPr/>
                <p:nvPr/>
              </p:nvGrpSpPr>
              <p:grpSpPr>
                <a:xfrm>
                  <a:off x="4400280" y="3556080"/>
                  <a:ext cx="628560" cy="323280"/>
                  <a:chOff x="4400280" y="3556080"/>
                  <a:chExt cx="628560" cy="323280"/>
                </a:xfrm>
              </p:grpSpPr>
              <p:grpSp>
                <p:nvGrpSpPr>
                  <p:cNvPr id="363" name="Group 60"/>
                  <p:cNvGrpSpPr/>
                  <p:nvPr/>
                </p:nvGrpSpPr>
                <p:grpSpPr>
                  <a:xfrm>
                    <a:off x="4819320" y="3636720"/>
                    <a:ext cx="139680" cy="161640"/>
                    <a:chOff x="4819320" y="3636720"/>
                    <a:chExt cx="139680" cy="161640"/>
                  </a:xfrm>
                </p:grpSpPr>
                <p:sp>
                  <p:nvSpPr>
                    <p:cNvPr id="364" name="Freeform 61"/>
                    <p:cNvSpPr/>
                    <p:nvPr/>
                  </p:nvSpPr>
                  <p:spPr>
                    <a:xfrm>
                      <a:off x="4838760" y="3677040"/>
                      <a:ext cx="97200" cy="806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Oval 62"/>
                    <p:cNvSpPr/>
                    <p:nvPr/>
                  </p:nvSpPr>
                  <p:spPr>
                    <a:xfrm>
                      <a:off x="4819320" y="3636720"/>
                      <a:ext cx="139680" cy="16164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6" name="AutoShape 63"/>
                  <p:cNvSpPr/>
                  <p:nvPr/>
                </p:nvSpPr>
                <p:spPr>
                  <a:xfrm>
                    <a:off x="4400280" y="3556080"/>
                    <a:ext cx="628560" cy="32328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AutoShape 64"/>
                  <p:cNvSpPr/>
                  <p:nvPr/>
                </p:nvSpPr>
                <p:spPr>
                  <a:xfrm>
                    <a:off x="4423320" y="3596400"/>
                    <a:ext cx="582120" cy="2426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Group 65"/>
                <p:cNvGrpSpPr/>
                <p:nvPr/>
              </p:nvGrpSpPr>
              <p:grpSpPr>
                <a:xfrm>
                  <a:off x="5028840" y="3556080"/>
                  <a:ext cx="628560" cy="323280"/>
                  <a:chOff x="5028840" y="3556080"/>
                  <a:chExt cx="628560" cy="323280"/>
                </a:xfrm>
              </p:grpSpPr>
              <p:grpSp>
                <p:nvGrpSpPr>
                  <p:cNvPr id="369" name="Group 66"/>
                  <p:cNvGrpSpPr/>
                  <p:nvPr/>
                </p:nvGrpSpPr>
                <p:grpSpPr>
                  <a:xfrm>
                    <a:off x="5447880" y="3636720"/>
                    <a:ext cx="139680" cy="161640"/>
                    <a:chOff x="5447880" y="3636720"/>
                    <a:chExt cx="139680" cy="161640"/>
                  </a:xfrm>
                </p:grpSpPr>
                <p:sp>
                  <p:nvSpPr>
                    <p:cNvPr id="370" name="Freeform 67"/>
                    <p:cNvSpPr/>
                    <p:nvPr/>
                  </p:nvSpPr>
                  <p:spPr>
                    <a:xfrm>
                      <a:off x="5467320" y="3677040"/>
                      <a:ext cx="97200" cy="806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Oval 68"/>
                    <p:cNvSpPr/>
                    <p:nvPr/>
                  </p:nvSpPr>
                  <p:spPr>
                    <a:xfrm>
                      <a:off x="5447880" y="3636720"/>
                      <a:ext cx="139680" cy="16164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2" name="AutoShape 69"/>
                  <p:cNvSpPr/>
                  <p:nvPr/>
                </p:nvSpPr>
                <p:spPr>
                  <a:xfrm>
                    <a:off x="5028840" y="3556080"/>
                    <a:ext cx="628560" cy="32328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AutoShape 70"/>
                  <p:cNvSpPr/>
                  <p:nvPr/>
                </p:nvSpPr>
                <p:spPr>
                  <a:xfrm>
                    <a:off x="5051880" y="3596400"/>
                    <a:ext cx="582120" cy="2426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Group 71"/>
                <p:cNvGrpSpPr/>
                <p:nvPr/>
              </p:nvGrpSpPr>
              <p:grpSpPr>
                <a:xfrm>
                  <a:off x="3143160" y="3556080"/>
                  <a:ext cx="628560" cy="323280"/>
                  <a:chOff x="3143160" y="3556080"/>
                  <a:chExt cx="628560" cy="323280"/>
                </a:xfrm>
              </p:grpSpPr>
              <p:grpSp>
                <p:nvGrpSpPr>
                  <p:cNvPr id="375" name="Group 72"/>
                  <p:cNvGrpSpPr/>
                  <p:nvPr/>
                </p:nvGrpSpPr>
                <p:grpSpPr>
                  <a:xfrm>
                    <a:off x="3562200" y="3636720"/>
                    <a:ext cx="139680" cy="161640"/>
                    <a:chOff x="3562200" y="3636720"/>
                    <a:chExt cx="139680" cy="161640"/>
                  </a:xfrm>
                </p:grpSpPr>
                <p:sp>
                  <p:nvSpPr>
                    <p:cNvPr id="376" name="Freeform 73"/>
                    <p:cNvSpPr/>
                    <p:nvPr/>
                  </p:nvSpPr>
                  <p:spPr>
                    <a:xfrm>
                      <a:off x="3581640" y="3677040"/>
                      <a:ext cx="97200" cy="806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Oval 74"/>
                    <p:cNvSpPr/>
                    <p:nvPr/>
                  </p:nvSpPr>
                  <p:spPr>
                    <a:xfrm>
                      <a:off x="3562200" y="3636720"/>
                      <a:ext cx="139680" cy="16164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8" name="AutoShape 75"/>
                  <p:cNvSpPr/>
                  <p:nvPr/>
                </p:nvSpPr>
                <p:spPr>
                  <a:xfrm>
                    <a:off x="3143160" y="3556080"/>
                    <a:ext cx="628560" cy="32328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AutoShape 76"/>
                  <p:cNvSpPr/>
                  <p:nvPr/>
                </p:nvSpPr>
                <p:spPr>
                  <a:xfrm>
                    <a:off x="3166200" y="3596400"/>
                    <a:ext cx="582120" cy="2426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0" name="Line 77"/>
              <p:cNvSpPr/>
              <p:nvPr/>
            </p:nvSpPr>
            <p:spPr>
              <a:xfrm>
                <a:off x="2914560" y="1593360"/>
                <a:ext cx="5331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78"/>
              <p:cNvSpPr/>
              <p:nvPr/>
            </p:nvSpPr>
            <p:spPr>
              <a:xfrm flipH="1">
                <a:off x="5352840" y="1479240"/>
                <a:ext cx="533520" cy="57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Text Box 79"/>
              <p:cNvSpPr/>
              <p:nvPr/>
            </p:nvSpPr>
            <p:spPr>
              <a:xfrm>
                <a:off x="1619280" y="1936440"/>
                <a:ext cx="152388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ncorporación del transgen y gen marcador en el ADN cromosomal de las células vegetal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80"/>
              <p:cNvSpPr/>
              <p:nvPr/>
            </p:nvSpPr>
            <p:spPr>
              <a:xfrm>
                <a:off x="5505480" y="1936440"/>
                <a:ext cx="152388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ncorporación del transgen y gen marcador en el ADN cromosomal de las células vegetal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81"/>
              <p:cNvSpPr/>
              <p:nvPr/>
            </p:nvSpPr>
            <p:spPr>
              <a:xfrm>
                <a:off x="5810040" y="3079080"/>
                <a:ext cx="1523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roliferación de las células vegetales y replicación del transgen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82"/>
            <p:cNvGrpSpPr/>
            <p:nvPr/>
          </p:nvGrpSpPr>
          <p:grpSpPr>
            <a:xfrm>
              <a:off x="1923840" y="4108320"/>
              <a:ext cx="4572000" cy="1942560"/>
              <a:chOff x="1923840" y="4108320"/>
              <a:chExt cx="4572000" cy="1942560"/>
            </a:xfrm>
          </p:grpSpPr>
          <p:pic>
            <p:nvPicPr>
              <p:cNvPr id="386" name="Picture 83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3840" y="4530240"/>
                <a:ext cx="1676520" cy="1520640"/>
              </a:xfrm>
              <a:prstGeom prst="rect">
                <a:avLst/>
              </a:prstGeom>
              <a:ln w="19080">
                <a:solidFill>
                  <a:srgbClr val="000000"/>
                </a:solidFill>
                <a:miter/>
              </a:ln>
            </p:spPr>
          </p:pic>
          <p:grpSp>
            <p:nvGrpSpPr>
              <p:cNvPr id="387" name="Group 84"/>
              <p:cNvGrpSpPr/>
              <p:nvPr/>
            </p:nvGrpSpPr>
            <p:grpSpPr>
              <a:xfrm>
                <a:off x="5657760" y="4451040"/>
                <a:ext cx="838080" cy="1256760"/>
                <a:chOff x="5657760" y="4451040"/>
                <a:chExt cx="838080" cy="1256760"/>
              </a:xfrm>
            </p:grpSpPr>
            <p:sp>
              <p:nvSpPr>
                <p:cNvPr id="388" name="AutoShape 85"/>
                <p:cNvSpPr/>
                <p:nvPr/>
              </p:nvSpPr>
              <p:spPr>
                <a:xfrm>
                  <a:off x="5810040" y="5136480"/>
                  <a:ext cx="609480" cy="571320"/>
                </a:xfrm>
                <a:prstGeom prst="pie">
                  <a:avLst/>
                </a:prstGeom>
                <a:solidFill>
                  <a:srgbClr val="9933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plant"/>
                <p:cNvSpPr/>
                <p:nvPr/>
              </p:nvSpPr>
              <p:spPr>
                <a:xfrm>
                  <a:off x="5657760" y="4451040"/>
                  <a:ext cx="838080" cy="799920"/>
                </a:xfrm>
                <a:prstGeom prst="pi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Text Box 87"/>
              <p:cNvSpPr/>
              <p:nvPr/>
            </p:nvSpPr>
            <p:spPr>
              <a:xfrm>
                <a:off x="1999800" y="4108320"/>
                <a:ext cx="1523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elección y crecimiento de las células que expresan el transgen y gen marcado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88"/>
              <p:cNvSpPr/>
              <p:nvPr/>
            </p:nvSpPr>
            <p:spPr>
              <a:xfrm>
                <a:off x="3981240" y="4908240"/>
                <a:ext cx="152388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Transferencia de las plántulas transformadas al suelo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89"/>
              <p:cNvSpPr/>
              <p:nvPr/>
            </p:nvSpPr>
            <p:spPr>
              <a:xfrm>
                <a:off x="3828600" y="5365440"/>
                <a:ext cx="19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90"/>
            <p:cNvGrpSpPr/>
            <p:nvPr/>
          </p:nvGrpSpPr>
          <p:grpSpPr>
            <a:xfrm>
              <a:off x="1847880" y="793440"/>
              <a:ext cx="2057040" cy="685440"/>
              <a:chOff x="1847880" y="793440"/>
              <a:chExt cx="2057040" cy="685440"/>
            </a:xfrm>
          </p:grpSpPr>
          <p:grpSp>
            <p:nvGrpSpPr>
              <p:cNvPr id="394" name="Group 91"/>
              <p:cNvGrpSpPr/>
              <p:nvPr/>
            </p:nvGrpSpPr>
            <p:grpSpPr>
              <a:xfrm>
                <a:off x="1847880" y="793440"/>
                <a:ext cx="2057040" cy="685440"/>
                <a:chOff x="1847880" y="793440"/>
                <a:chExt cx="2057040" cy="685440"/>
              </a:xfrm>
            </p:grpSpPr>
            <p:sp>
              <p:nvSpPr>
                <p:cNvPr id="395" name="Oval 92"/>
                <p:cNvSpPr/>
                <p:nvPr/>
              </p:nvSpPr>
              <p:spPr>
                <a:xfrm>
                  <a:off x="1847880" y="793440"/>
                  <a:ext cx="2057040" cy="489600"/>
                </a:xfrm>
                <a:prstGeom prst="ellipse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Oval 93"/>
                <p:cNvSpPr/>
                <p:nvPr/>
              </p:nvSpPr>
              <p:spPr>
                <a:xfrm>
                  <a:off x="1847880" y="989280"/>
                  <a:ext cx="2057040" cy="489600"/>
                </a:xfrm>
                <a:prstGeom prst="ellipse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Line 94"/>
                <p:cNvSpPr/>
                <p:nvPr/>
              </p:nvSpPr>
              <p:spPr>
                <a:xfrm>
                  <a:off x="1847880" y="1004760"/>
                  <a:ext cx="0" cy="2664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Line 95"/>
                <p:cNvSpPr/>
                <p:nvPr/>
              </p:nvSpPr>
              <p:spPr>
                <a:xfrm>
                  <a:off x="3904920" y="1004760"/>
                  <a:ext cx="0" cy="2664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Oval 96"/>
              <p:cNvSpPr/>
              <p:nvPr/>
            </p:nvSpPr>
            <p:spPr>
              <a:xfrm>
                <a:off x="2190600" y="1032840"/>
                <a:ext cx="20556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97"/>
              <p:cNvSpPr/>
              <p:nvPr/>
            </p:nvSpPr>
            <p:spPr>
              <a:xfrm>
                <a:off x="2396520" y="1163520"/>
                <a:ext cx="205560" cy="975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98"/>
              <p:cNvSpPr/>
              <p:nvPr/>
            </p:nvSpPr>
            <p:spPr>
              <a:xfrm>
                <a:off x="3356280" y="1032840"/>
                <a:ext cx="20556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99"/>
              <p:cNvSpPr/>
              <p:nvPr/>
            </p:nvSpPr>
            <p:spPr>
              <a:xfrm>
                <a:off x="2739240" y="1130760"/>
                <a:ext cx="20556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100"/>
              <p:cNvSpPr/>
              <p:nvPr/>
            </p:nvSpPr>
            <p:spPr>
              <a:xfrm>
                <a:off x="3150720" y="1130760"/>
                <a:ext cx="20556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101"/>
              <p:cNvSpPr/>
              <p:nvPr/>
            </p:nvSpPr>
            <p:spPr>
              <a:xfrm>
                <a:off x="2533680" y="1032840"/>
                <a:ext cx="20556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102"/>
              <p:cNvSpPr/>
              <p:nvPr/>
            </p:nvSpPr>
            <p:spPr>
              <a:xfrm>
                <a:off x="2944800" y="1032840"/>
                <a:ext cx="20556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03"/>
            <p:cNvGrpSpPr/>
            <p:nvPr/>
          </p:nvGrpSpPr>
          <p:grpSpPr>
            <a:xfrm>
              <a:off x="4819680" y="679320"/>
              <a:ext cx="1981080" cy="685440"/>
              <a:chOff x="4819680" y="679320"/>
              <a:chExt cx="1981080" cy="685440"/>
            </a:xfrm>
          </p:grpSpPr>
          <p:grpSp>
            <p:nvGrpSpPr>
              <p:cNvPr id="407" name="Group 104"/>
              <p:cNvGrpSpPr/>
              <p:nvPr/>
            </p:nvGrpSpPr>
            <p:grpSpPr>
              <a:xfrm>
                <a:off x="4819680" y="679320"/>
                <a:ext cx="1981080" cy="685440"/>
                <a:chOff x="4819680" y="679320"/>
                <a:chExt cx="1981080" cy="685440"/>
              </a:xfrm>
            </p:grpSpPr>
            <p:sp>
              <p:nvSpPr>
                <p:cNvPr id="408" name="Oval 105"/>
                <p:cNvSpPr/>
                <p:nvPr/>
              </p:nvSpPr>
              <p:spPr>
                <a:xfrm>
                  <a:off x="4819680" y="679320"/>
                  <a:ext cx="1981080" cy="489600"/>
                </a:xfrm>
                <a:prstGeom prst="ellipse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106"/>
                <p:cNvSpPr/>
                <p:nvPr/>
              </p:nvSpPr>
              <p:spPr>
                <a:xfrm>
                  <a:off x="4819680" y="875160"/>
                  <a:ext cx="1981080" cy="489600"/>
                </a:xfrm>
                <a:prstGeom prst="ellipse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Line 107"/>
                <p:cNvSpPr/>
                <p:nvPr/>
              </p:nvSpPr>
              <p:spPr>
                <a:xfrm>
                  <a:off x="4819680" y="890640"/>
                  <a:ext cx="0" cy="2664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Line 108"/>
                <p:cNvSpPr/>
                <p:nvPr/>
              </p:nvSpPr>
              <p:spPr>
                <a:xfrm>
                  <a:off x="6800760" y="890640"/>
                  <a:ext cx="0" cy="2664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2" name="Oval 109"/>
              <p:cNvSpPr/>
              <p:nvPr/>
            </p:nvSpPr>
            <p:spPr>
              <a:xfrm>
                <a:off x="5149800" y="918720"/>
                <a:ext cx="19800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110"/>
              <p:cNvSpPr/>
              <p:nvPr/>
            </p:nvSpPr>
            <p:spPr>
              <a:xfrm>
                <a:off x="5347800" y="1049400"/>
                <a:ext cx="198000" cy="975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111"/>
              <p:cNvSpPr/>
              <p:nvPr/>
            </p:nvSpPr>
            <p:spPr>
              <a:xfrm>
                <a:off x="6272640" y="918720"/>
                <a:ext cx="19800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Oval 112"/>
              <p:cNvSpPr/>
              <p:nvPr/>
            </p:nvSpPr>
            <p:spPr>
              <a:xfrm>
                <a:off x="5678280" y="1016640"/>
                <a:ext cx="19800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Oval 113"/>
              <p:cNvSpPr/>
              <p:nvPr/>
            </p:nvSpPr>
            <p:spPr>
              <a:xfrm>
                <a:off x="6074280" y="1016640"/>
                <a:ext cx="19800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Oval 114"/>
              <p:cNvSpPr/>
              <p:nvPr/>
            </p:nvSpPr>
            <p:spPr>
              <a:xfrm>
                <a:off x="5479920" y="918720"/>
                <a:ext cx="19800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Oval 115"/>
              <p:cNvSpPr/>
              <p:nvPr/>
            </p:nvSpPr>
            <p:spPr>
              <a:xfrm>
                <a:off x="5876280" y="918720"/>
                <a:ext cx="19800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Text Box 116"/>
            <p:cNvSpPr/>
            <p:nvPr/>
          </p:nvSpPr>
          <p:spPr>
            <a:xfrm>
              <a:off x="3905280" y="5937120"/>
              <a:ext cx="1600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ayor parte del crecimiento demográfic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drá lugar en los países subdesarroll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41440" y="1198440"/>
            <a:ext cx="8137440" cy="4535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285840" y="5734080"/>
            <a:ext cx="885960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853596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cia 2025 será necesario alimentar a 2.000 millones de personas adi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853596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en 800 millones de personas desnutridas; de acuerdo con las tend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853596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es esta cifra recién disminuiría a 200 millones en 20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214200" y="2057400"/>
          <a:ext cx="8786880" cy="3586320"/>
        </p:xfrm>
        <a:graphic>
          <a:graphicData uri="http://schemas.openxmlformats.org/drawingml/2006/table">
            <a:tbl>
              <a:tblPr/>
              <a:tblGrid>
                <a:gridCol w="3384720"/>
                <a:gridCol w="2044800"/>
                <a:gridCol w="3357360"/>
              </a:tblGrid>
              <a:tr h="795240">
                <a:tc>
                  <a:txBody>
                    <a:bodyPr lIns="32760" rIns="32760" tIns="15372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ultivos aprobad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15372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enomin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15372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étodo de transform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32760" rIns="32760" tIns="12816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oja tolerante a glifos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11520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GTS 40-3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12816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Bombardeo de micropartícu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32760" rIns="32760" tIns="12816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aiz resistente a lepidópter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11520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ON8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12816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Bombardeo de micropartícu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32760" rIns="32760" tIns="12816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aiz tolerante a glifos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11520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GA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12816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Bombardeo de micropartícu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32760" rIns="32760" tIns="12816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aiz resistente a lepidópte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11520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BT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12816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ransferencia directa a protopla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32760" rIns="32760" tIns="12816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anola tolerante a herbic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11520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OXY2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760" rIns="32760" tIns="128160" bIns="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Agrobacterium tumefaci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760" marR="32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Text Box 85"/>
          <p:cNvSpPr/>
          <p:nvPr/>
        </p:nvSpPr>
        <p:spPr>
          <a:xfrm>
            <a:off x="250920" y="5877000"/>
            <a:ext cx="194292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Fuente: www.agbios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3 CuadroTexto"/>
          <p:cNvSpPr/>
          <p:nvPr/>
        </p:nvSpPr>
        <p:spPr>
          <a:xfrm>
            <a:off x="290880" y="11430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 Argent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3443760" y="1268280"/>
            <a:ext cx="29440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sistencia a Sequ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5329440" cy="433080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3"/>
          <p:cNvSpPr/>
          <p:nvPr/>
        </p:nvSpPr>
        <p:spPr>
          <a:xfrm>
            <a:off x="2533680" y="620640"/>
            <a:ext cx="46814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Otras características Introduci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2302920" y="1125360"/>
            <a:ext cx="49114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Vitamina A en Arroz – Arroz Dor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2533680" y="620640"/>
            <a:ext cx="46814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Otras características Introduci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1"/>
          <a:stretch/>
        </p:blipFill>
        <p:spPr>
          <a:xfrm>
            <a:off x="1476360" y="3284640"/>
            <a:ext cx="6515280" cy="28810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4"/>
          <p:cNvSpPr/>
          <p:nvPr/>
        </p:nvSpPr>
        <p:spPr>
          <a:xfrm>
            <a:off x="1042920" y="2023200"/>
            <a:ext cx="763128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roz dora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una variedad de arroz (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Oryza sativ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producida a través de ingeniería genética, biosintetizando los precursores de beta-caroteno (pro-vitamina A) en las partes comestibles del grano de arro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431280" y="1504800"/>
            <a:ext cx="49114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Vitamina A en Arroz – Arroz Dor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2533680" y="620640"/>
            <a:ext cx="46814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Otras características Introduci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539640" y="4149720"/>
            <a:ext cx="4608720" cy="197496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4"/>
          <p:cNvSpPr/>
          <p:nvPr/>
        </p:nvSpPr>
        <p:spPr>
          <a:xfrm>
            <a:off x="468360" y="2221200"/>
            <a:ext cx="4681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En 2005 se anuncia la obtención de una nueva variedad, </a:t>
            </a:r>
            <a:r>
              <a:rPr b="0" i="1" lang="es-ES" sz="1300" spc="-1" strike="noStrike">
                <a:solidFill>
                  <a:srgbClr val="000000"/>
                </a:solidFill>
                <a:latin typeface="Arial"/>
              </a:rPr>
              <a:t>Golden Rice 2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, que produce 23 veces más beta-caroteno que el a. dorado original. Todavía ninguna de estas variedades está disponible para consumo humano. A pesar de su concepción humanitarista, tiene significativa oposición de los ambientalistas y activistas anti-globalización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1500120"/>
            <a:ext cx="3637080" cy="285768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5364000" y="4395600"/>
            <a:ext cx="3600720" cy="18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Vista simplificada de la biosíntesis de carotenoides en a. dorado. Las enzimas expresadas en el endosperma del a. dorado, van en rojo, cataliza la biosíntesis de beta-caroteno del difosfato de geranilgernailgeranylgernayl diphosphate. El Beta-caroteno se convierte en retinal y subsecuentemente en retinol (vitamina A) en el intestino anima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" descr=""/>
          <p:cNvPicPr/>
          <p:nvPr/>
        </p:nvPicPr>
        <p:blipFill>
          <a:blip r:embed="rId1"/>
          <a:stretch/>
        </p:blipFill>
        <p:spPr>
          <a:xfrm>
            <a:off x="1620720" y="1992240"/>
            <a:ext cx="6193080" cy="403056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2"/>
          <p:cNvSpPr/>
          <p:nvPr/>
        </p:nvSpPr>
        <p:spPr>
          <a:xfrm>
            <a:off x="1622880" y="1243080"/>
            <a:ext cx="64490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Productos farmacéuticos (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Molecular Pharming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1539000" y="620640"/>
            <a:ext cx="66992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Otras características que se pretenden introduc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1622880" y="836640"/>
            <a:ext cx="64490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Productos farmacéuticos (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Molecular Pharming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611280" y="1700280"/>
            <a:ext cx="806292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40000"/>
              </a:lnSpc>
              <a:buClr>
                <a:srgbClr val="ff0000"/>
              </a:buClr>
              <a:buFont typeface="Arial"/>
              <a:buChar char="-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Papa productora de una vacuna que previene la Diabetes tipo 1 (autoinmune) insulino-dependiente, 100 veces más poderosa que la actual vacu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b0f0"/>
              </a:buClr>
              <a:buFont typeface="Arial"/>
              <a:buChar char="-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b0f0"/>
                </a:solidFill>
                <a:latin typeface="Arial"/>
              </a:rPr>
              <a:t>Papa que produce la subunidad B antigénica de la enterotoxina del </a:t>
            </a:r>
            <a:r>
              <a:rPr b="1" i="1" lang="es-MX" sz="1800" spc="-1" strike="noStrike">
                <a:solidFill>
                  <a:srgbClr val="00b0f0"/>
                </a:solidFill>
                <a:latin typeface="Arial"/>
              </a:rPr>
              <a:t>Vibrio</a:t>
            </a:r>
            <a:r>
              <a:rPr b="1" lang="es-MX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i="1" lang="es-MX" sz="1800" spc="-1" strike="noStrike">
                <a:solidFill>
                  <a:srgbClr val="00b0f0"/>
                </a:solidFill>
                <a:latin typeface="Arial"/>
              </a:rPr>
              <a:t>cholerae</a:t>
            </a:r>
            <a:r>
              <a:rPr b="1" lang="es-MX" sz="1800" spc="-1" strike="noStrike">
                <a:solidFill>
                  <a:srgbClr val="00b0f0"/>
                </a:solidFill>
                <a:latin typeface="Arial"/>
              </a:rPr>
              <a:t> causante del cól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92d050"/>
                </a:solidFill>
                <a:latin typeface="Arial"/>
              </a:rPr>
              <a:t>Soja productora de anticuerpos que protegen contra el virus 2 de </a:t>
            </a:r>
            <a:r>
              <a:rPr b="1" i="1" lang="es-MX" sz="1800" spc="-1" strike="noStrike">
                <a:solidFill>
                  <a:srgbClr val="92d050"/>
                </a:solidFill>
                <a:latin typeface="Arial"/>
              </a:rPr>
              <a:t>Herpes</a:t>
            </a:r>
            <a:r>
              <a:rPr b="1" lang="es-MX" sz="18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i="1" lang="es-MX" sz="1800" spc="-1" strike="noStrike">
                <a:solidFill>
                  <a:srgbClr val="92d050"/>
                </a:solidFill>
                <a:latin typeface="Arial"/>
              </a:rPr>
              <a:t>simplex</a:t>
            </a:r>
            <a:r>
              <a:rPr b="1" lang="es-MX" sz="1800" spc="-1" strike="noStrike">
                <a:solidFill>
                  <a:srgbClr val="92d050"/>
                </a:solidFill>
                <a:latin typeface="Arial"/>
              </a:rPr>
              <a:t> (H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ffc000"/>
                </a:solidFill>
                <a:latin typeface="Arial"/>
              </a:rPr>
              <a:t>Tabaco con anticuerpos que previenen la caries dental producida por </a:t>
            </a:r>
            <a:r>
              <a:rPr b="1" i="1" lang="es-MX" sz="1800" spc="-1" strike="noStrike">
                <a:solidFill>
                  <a:srgbClr val="ffc000"/>
                </a:solidFill>
                <a:latin typeface="Arial"/>
              </a:rPr>
              <a:t>Streptococcus</a:t>
            </a:r>
            <a:r>
              <a:rPr b="1" lang="es-MX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i="1" lang="es-MX" sz="1800" spc="-1" strike="noStrike">
                <a:solidFill>
                  <a:srgbClr val="ffc000"/>
                </a:solidFill>
                <a:latin typeface="Arial"/>
              </a:rPr>
              <a:t>mut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47" name="3 CuadroTexto"/>
          <p:cNvSpPr/>
          <p:nvPr/>
        </p:nvSpPr>
        <p:spPr>
          <a:xfrm>
            <a:off x="142920" y="5699160"/>
            <a:ext cx="5143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CONABIA Comisión Nacional Asesora de Biotecnología Agropecua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SENASA Servicio Nacional de Sanidad Agra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DNMA Dirección Nacional de Mercados Alimentar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SAGPyA Secretaría de Agricultura, Ganadería, Pesca y Alimentos 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ASE - Instituto Nacional de Semill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5 Grupo"/>
          <p:cNvGrpSpPr/>
          <p:nvPr/>
        </p:nvGrpSpPr>
        <p:grpSpPr>
          <a:xfrm>
            <a:off x="1214280" y="476280"/>
            <a:ext cx="6715440" cy="5832360"/>
            <a:chOff x="1214280" y="476280"/>
            <a:chExt cx="6715440" cy="5832360"/>
          </a:xfrm>
        </p:grpSpPr>
        <p:pic>
          <p:nvPicPr>
            <p:cNvPr id="449" name="Picture 1" descr=""/>
            <p:cNvPicPr/>
            <p:nvPr/>
          </p:nvPicPr>
          <p:blipFill>
            <a:blip r:embed="rId1"/>
            <a:stretch/>
          </p:blipFill>
          <p:spPr>
            <a:xfrm>
              <a:off x="1692000" y="476280"/>
              <a:ext cx="5394600" cy="58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3 CuadroTexto"/>
            <p:cNvSpPr/>
            <p:nvPr/>
          </p:nvSpPr>
          <p:spPr>
            <a:xfrm>
              <a:off x="1214280" y="5497200"/>
              <a:ext cx="6715440" cy="642600"/>
            </a:xfrm>
            <a:prstGeom prst="rect">
              <a:avLst/>
            </a:prstGeom>
            <a:gradFill rotWithShape="0">
              <a:gsLst>
                <a:gs pos="0">
                  <a:srgbClr val="acace1"/>
                </a:gs>
                <a:gs pos="100000">
                  <a:srgbClr val="e9e9f7"/>
                </a:gs>
              </a:gsLst>
              <a:lin ang="16200000"/>
            </a:gradFill>
            <a:ln w="9360">
              <a:solidFill>
                <a:srgbClr val="29298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Guillermo está trabajando en un programa genético para transformar los vegetales modificados en 100% orgán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Rectangle 2"/>
          <p:cNvSpPr/>
          <p:nvPr/>
        </p:nvSpPr>
        <p:spPr>
          <a:xfrm>
            <a:off x="3994200" y="333360"/>
            <a:ext cx="3240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 sólo se requieren más alimentos, sino también mejores alim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9600"/>
                <a:tab algn="l" pos="822240"/>
                <a:tab algn="l" pos="1652760"/>
                <a:tab algn="l" pos="2481120"/>
                <a:tab algn="l" pos="3311640"/>
                <a:tab algn="l" pos="4140360"/>
                <a:tab algn="l" pos="4970520"/>
                <a:tab algn="l" pos="5799240"/>
                <a:tab algn="l" pos="6629400"/>
                <a:tab algn="l" pos="7458120"/>
                <a:tab algn="l" pos="8288280"/>
                <a:tab algn="l" pos="9117000"/>
                <a:tab algn="l" pos="9118440"/>
                <a:tab algn="l" pos="9532800"/>
                <a:tab algn="l" pos="9534600"/>
                <a:tab algn="l" pos="953604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necesidades nutricionales no están debidamente cubiertas cuando la dieta se basa en un único cultivo. Esta situación es común en muchos países en desarrol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42960" y="2924280"/>
            <a:ext cx="592920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853596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eficiencia de vitamina A afecta a 250 millones de personas y causa la ceguera de 500.000 niños por 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853596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eficiencia de lisina reduce el valor nutricional de los granos de cere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853596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ingesta de glicoalcaloides en las comunidades Andinas provoca desórdenes aliment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853596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deficiencias en hierro, iodo y zinc debilitan a mujeres embarazadas y a niños y afectan a 2.000 millones de perso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445080" y="3070080"/>
            <a:ext cx="2700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0000"/>
                </a:solidFill>
                <a:latin typeface="Arial"/>
              </a:rPr>
              <a:t>La ingeniería genética podría </a:t>
            </a:r>
            <a:br>
              <a:rPr sz="2900"/>
            </a:br>
            <a:r>
              <a:rPr b="1" lang="es-ES" sz="2900" spc="-1" strike="noStrike">
                <a:solidFill>
                  <a:srgbClr val="ff0000"/>
                </a:solidFill>
                <a:latin typeface="Arial"/>
              </a:rPr>
              <a:t>ser parte de la solució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2440" y="149400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63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333399"/>
                </a:solidFill>
                <a:latin typeface="Arial"/>
              </a:rPr>
              <a:t>Objetivo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63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333399"/>
                </a:solidFill>
                <a:latin typeface="Arial"/>
              </a:rPr>
              <a:t>Aumentar la producción de alimentos para abastecer el crecimiento poblacional y compensar el descenso de productividad y la reducción de tierra cultivab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63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- Aumentando la eficiencia del mejoramien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- Introduciendo resistencia a pestes y enfermedad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- Introduciendo tolerancia a temperaturas y sequí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- Extendiendo la producción a suelos margina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500" spc="-1" strike="noStrike">
                <a:solidFill>
                  <a:srgbClr val="333399"/>
                </a:solidFill>
                <a:latin typeface="Arial"/>
              </a:rPr>
              <a:t>Aumentar la calidad nutricional y compensar dietas mal balancead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- Compensando deficiencias en vitaminas y micronutrien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- Eliminando compuestos tóxicos: cianuros, glicoalcaloides, et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500" spc="-1" strike="noStrike">
                <a:solidFill>
                  <a:srgbClr val="333399"/>
                </a:solidFill>
                <a:latin typeface="Arial"/>
              </a:rPr>
              <a:t>Disminuir los costos de producción y aumentar el valor agregad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63"/>
              </a:spcBef>
              <a:buNone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- Aumentando la producción de alimentos mas nutritivo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- Introduciendo productos en mercados especializados (biocombustibles, polímero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63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333399"/>
                </a:solidFill>
                <a:latin typeface="Arial"/>
              </a:rPr>
              <a:t>Disminuir la degradación del medio ambien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63"/>
              </a:spcBef>
              <a:buNone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- Introduciendo caracteres genéticos que requieran baja o mejor utilización de insumos    químic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- Promoviendo aplicaciones en biorremediació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Cinco inquietudes que genera la ingeniería genétic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9520" y="13986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43080" indent="-343080">
              <a:spcBef>
                <a:spcPts val="638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La aprehensión instintiva hacia las nuevas tecnologí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•  </a:t>
            </a: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La desconfianza en las  agencia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regulador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38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La dominancia de las corporacion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multinacional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38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La amenaza a la biodiversida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38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La competencia con los sistemas d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producción agrícola alternativ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6300720" y="2205000"/>
            <a:ext cx="2448000" cy="28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1"/>
          <p:cNvGrpSpPr/>
          <p:nvPr/>
        </p:nvGrpSpPr>
        <p:grpSpPr>
          <a:xfrm>
            <a:off x="0" y="907920"/>
            <a:ext cx="9070920" cy="4859640"/>
            <a:chOff x="0" y="907920"/>
            <a:chExt cx="9070920" cy="4859640"/>
          </a:xfrm>
        </p:grpSpPr>
        <p:pic>
          <p:nvPicPr>
            <p:cNvPr id="104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070920" cy="485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3"/>
            <p:cNvSpPr/>
            <p:nvPr/>
          </p:nvSpPr>
          <p:spPr>
            <a:xfrm>
              <a:off x="0" y="907920"/>
              <a:ext cx="9070920" cy="48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0" y="787320"/>
            <a:ext cx="9144000" cy="606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63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0" lang="es-AR" sz="2900" spc="-1" strike="noStrike">
                <a:solidFill>
                  <a:srgbClr val="280099"/>
                </a:solidFill>
                <a:latin typeface="Berlin Sans FB Demi"/>
              </a:rPr>
              <a:t>Organismo geneticamente modificado (OGM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79520" y="1549440"/>
            <a:ext cx="8229600" cy="28051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   “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1" lang="en-US" sz="2200" spc="-1" strike="noStrike">
                <a:solidFill>
                  <a:srgbClr val="333399"/>
                </a:solidFill>
                <a:latin typeface="Berlin Sans FB Demi"/>
              </a:rPr>
              <a:t>n organismo (vegetal, animal, microorganismo o virus) en el cual se ha</a:t>
            </a:r>
            <a:r>
              <a:rPr b="1" lang="en-US" sz="2200" spc="-1" strike="noStrike">
                <a:solidFill>
                  <a:srgbClr val="ff420e"/>
                </a:solidFill>
                <a:latin typeface="Berlin Sans FB Demi"/>
              </a:rPr>
              <a:t> introducido material (información) genético</a:t>
            </a:r>
            <a:r>
              <a:rPr b="1" lang="en-US" sz="2200" spc="-1" strike="noStrike">
                <a:solidFill>
                  <a:srgbClr val="333399"/>
                </a:solidFill>
                <a:latin typeface="Berlin Sans FB Demi"/>
              </a:rPr>
              <a:t> preciso y definido, en forma deliberada y</a:t>
            </a:r>
            <a:r>
              <a:rPr b="1" lang="en-US" sz="2200" spc="-1" strike="noStrike">
                <a:solidFill>
                  <a:srgbClr val="ff420e"/>
                </a:solidFill>
                <a:latin typeface="Berlin Sans FB Demi"/>
              </a:rPr>
              <a:t> dirigida a obtener un determinado</a:t>
            </a:r>
            <a:r>
              <a:rPr b="1" lang="en-US" sz="2200" spc="-1" strike="noStrike">
                <a:solidFill>
                  <a:srgbClr val="333399"/>
                </a:solidFill>
                <a:latin typeface="Berlin Sans FB Demi"/>
              </a:rPr>
              <a:t> producto </a:t>
            </a:r>
            <a:r>
              <a:rPr b="1" lang="en-US" sz="2200" spc="-1" strike="noStrike">
                <a:solidFill>
                  <a:srgbClr val="ff0000"/>
                </a:solidFill>
                <a:latin typeface="Berlin Sans FB Demi"/>
              </a:rPr>
              <a:t>(f</a:t>
            </a:r>
            <a:r>
              <a:rPr b="1" lang="en-US" sz="2200" spc="-1" strike="noStrike">
                <a:solidFill>
                  <a:srgbClr val="ff420e"/>
                </a:solidFill>
                <a:latin typeface="Berlin Sans FB Demi"/>
              </a:rPr>
              <a:t>enotipo)</a:t>
            </a:r>
            <a:r>
              <a:rPr b="1" lang="en-US" sz="2200" spc="-1" strike="noStrike">
                <a:solidFill>
                  <a:srgbClr val="333399"/>
                </a:solidFill>
                <a:latin typeface="Berlin Sans FB Demi"/>
              </a:rPr>
              <a:t>, siendo dicha introducción realizada de tal manera que esa información genética no podría haber sido adquirida por el organismo por la vía de mutaciones, recombinaciones u otras formas de transferencia genética reconocidas como mecanismos que operan en la Naturaleza sin intervención humana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Cuando el OGM es un alimento, adquiere otras denominacione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132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43080" indent="0">
              <a:lnSpc>
                <a:spcPct val="80000"/>
              </a:lnSpc>
              <a:spcBef>
                <a:spcPts val="363"/>
              </a:spcBef>
              <a:buNone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s-ES" sz="2500" spc="-1" strike="noStrike">
                <a:solidFill>
                  <a:srgbClr val="333399"/>
                </a:solidFill>
                <a:latin typeface="Arial"/>
              </a:rPr>
              <a:t>Alimento biotecnológic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i="1" lang="es-ES" sz="2500" spc="-1" strike="noStrike">
                <a:solidFill>
                  <a:srgbClr val="333399"/>
                </a:solidFill>
                <a:latin typeface="Arial"/>
              </a:rPr>
              <a:t>Alimento transgénico</a:t>
            </a:r>
            <a:r>
              <a:rPr b="0" lang="es-ES" sz="25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s-ES" sz="2500" spc="-1" strike="noStrike">
                <a:solidFill>
                  <a:srgbClr val="333399"/>
                </a:solidFill>
                <a:latin typeface="Arial"/>
              </a:rPr>
              <a:t>Alimento genéticamente modifica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s-ES" sz="2500" spc="-1" strike="noStrike">
                <a:solidFill>
                  <a:srgbClr val="333399"/>
                </a:solidFill>
                <a:latin typeface="Arial"/>
              </a:rPr>
              <a:t>Bioproduct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s-ES" sz="2500" spc="-1" strike="noStrike">
                <a:solidFill>
                  <a:srgbClr val="333399"/>
                </a:solidFill>
                <a:latin typeface="Arial"/>
              </a:rPr>
              <a:t>Alimentos modificados por ingeniería genéti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s-ES" sz="2500" spc="-1" strike="noStrike">
                <a:solidFill>
                  <a:srgbClr val="333399"/>
                </a:solidFill>
                <a:latin typeface="Arial"/>
              </a:rPr>
              <a:t>Alimentos recombinan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s-ES" sz="2500" spc="-1" strike="noStrike">
                <a:solidFill>
                  <a:srgbClr val="333399"/>
                </a:solidFill>
                <a:latin typeface="Arial"/>
              </a:rPr>
              <a:t>Alimento obtenido mediante biotecnologí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es-AR" sz="25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500" spc="-1" strike="noStrike">
                <a:solidFill>
                  <a:srgbClr val="333399"/>
                </a:solidFill>
                <a:latin typeface="Copperplate Gothic Light"/>
              </a:rPr>
              <a:t>Frankenfoo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5:05:25Z</dcterms:created>
  <dc:creator>Facultad</dc:creator>
  <dc:description/>
  <dc:language>en-US</dc:language>
  <cp:lastModifiedBy>Your User Name</cp:lastModifiedBy>
  <dcterms:modified xsi:type="dcterms:W3CDTF">2014-11-25T19:32:32Z</dcterms:modified>
  <cp:revision>20</cp:revision>
  <dc:subject/>
  <dc:title>Alimentos transgénicos</dc:title>
</cp:coreProperties>
</file>